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0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87EC-FF0A-4F78-85A7-C27216246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0188-55E6-4053-B46B-B857301702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Header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8DCD-9999-4B43-BC5D-FDEAC0520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828C-EC9D-40AF-962E-D38A16410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6CE1-E752-4AB0-BDD3-EDEC4E760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3EB1-B9C7-4E57-8EB3-AF117CA54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4E3C-B9E3-4653-9B30-B7F860D5C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9FA1-B83C-411D-B9DF-E373D0BB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0FC1-7C41-46A4-A60A-BDDF20CA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C859C-5E1F-42E5-9996-425D7F1B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57816-A9C4-4A38-A6EA-E5A0841F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67FF9-CAD9-4855-AA39-A2B4D967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AB45B-0EF0-4D29-A1E4-2324B23B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B72B5-DCB6-43A7-81AA-54832055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9C142-8A23-4001-B0C4-CB5C09EB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1B5E5-CB65-42B9-91A5-038C1B83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1D269-5738-464D-9410-4B5884E5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DC009-C413-4039-9522-44CA9F92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361F3-98FF-489F-A446-648D6E5D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3460-FE3A-483D-A052-3E5E6E4A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5788C-7D24-4C1D-9663-F213C94A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788DC-73E0-4122-95BB-ADCACDFB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5EFE0-7689-436B-8C09-02BBC59B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EB77D-B339-42B7-94B0-9C9CC156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DD6FA-E947-4B7A-B6AC-592035B2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26CB3-F86E-4BF1-8B78-7DDE9C04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29402-AF95-4A55-A3B5-D923FE24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2CDD2-C9EB-454A-9B95-604EE236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4DC1D-C103-4970-9AFC-6B656AFA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5B8AF-2854-4E0F-A438-3CB08A0D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CEE-8AA8-4747-9F4B-882173A5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FE3B8-6CC2-4B84-A040-113F27D3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1ECF6-8180-4461-A335-F72017D1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5B45A-A6EB-435A-8B01-D797B790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AF1AB-8E4E-43D8-8CAA-FBD613AF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1FC41-0144-4A08-9301-D90DE81F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5D618-7F7F-438D-9644-F1860180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E8A26-531C-4964-B94D-34F4B918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1A3A8-5CF3-40C3-BFA1-83A78F29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A43E7-D994-4740-BFDE-B8B62CB8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5F1B4-A775-4A3C-9914-B7B10898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8D86-0D8E-4933-8883-C7F7E3E3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3F8D3-574D-4346-9CC3-99BA8967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07A20-C820-4CCB-9033-C57CC3E3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0FC7F-DF0A-47BD-8449-CCE8840A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10482-DA31-4453-895E-592AABD4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9825A-9FD7-46E3-8A6F-481B5C76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83ACE-1A65-48DC-91BF-616135A1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46BBB-1541-48BE-9222-743EAAF5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8D32F-7247-4B46-9C81-C529B7F4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47C5C-C6DB-4156-9831-9B6BBB4D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B3709-C36C-4249-9624-48F332E3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C02C-1FDF-45EE-A8ED-6172F665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DC8D4-E16C-45B1-A38C-B8F2FEB2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685E6-C6C0-43B1-9252-92FE13E2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95A81-BF4F-4FF5-B376-6C80DFA5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291AC-691D-4850-B01D-23C92413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DDCC5-9134-440A-9F81-B68FFA1E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ECB41-93E2-413C-B9BB-1790ACE5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B06E63-35BB-4841-949F-FF38FF05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A8F6B-36E5-454C-94B1-DF53C6AA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27C26E-1F07-40DB-96FD-ECA47BC8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9513FA-5631-4871-A035-D112B763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A4B9-E407-4122-BAC6-702F9727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A11C80-B2FA-4943-9158-FF8494F7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AB24B-51F3-45BE-B744-D1FABA71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345C55-61B8-4E42-B685-B94C8937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112070-FBBD-4027-9C59-E82CA0A9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1D819-92E4-47C7-BEE4-397534F5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791E42-05A4-47DB-B275-4C18FCE4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072D73-079B-4E26-B6F6-FF2F2F84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9BAF-59EE-4908-9C07-B713D853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2D9F-6172-4350-B0BB-26009CD7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6D65-FDCD-4EDA-A5BB-0C6FA793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F9CD-9A81-4CE7-B54A-E6C8C3B9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0CAC-4A5D-4914-8550-96C4329D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58AE-85C3-4F07-816A-5C8064AA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8BED-A1C6-469C-A45B-8BBC99F6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4C6C-48CD-4F30-9F39-E4A7300B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73E3-B8BF-46A3-86F6-F213C54E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1CE7-24BF-40D8-A634-DFA472F2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8938B-5EDB-49A6-BA68-A08339EB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6235C-85E9-4F93-B448-66B7F538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F6B86-F9D3-4552-A96A-566B10AB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1090E-7D5D-480F-B8FC-87B34946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8D252-5D3C-4EC6-BA3D-FDB10D30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CD1D-B19A-464A-8524-4D62B223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6C4D3-0CAC-4E42-BB62-6459B3ED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B36F2-8B09-455E-A9BE-69833CF0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15FF9-7B37-4EAB-BFAC-98DE8AC1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6A35C-11FE-4166-B17F-54CA6D54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F39B1-24F7-4232-BE22-E3583B5C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7F336-7EBB-41C2-93EC-37A8F7BE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9081B-6FA2-4521-8D95-909A909D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610C6-B3B4-4085-9027-E332DAA0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B726A-7826-479A-8DA5-01BC23DF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CC1F5-71E4-4085-9F99-0CA73B82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F2FA-95C1-4BDB-95A3-710EEFDF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EDCE8-A26B-4E3A-9BED-6980EC4F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96277-6D80-46E2-91C7-C6D194C9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D7395-C0CC-4089-959E-8B09A1FB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A98DE-5166-46D4-883D-6E77371C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E1364-A36B-4046-AB25-CA75FF45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7D09D-77FB-42E0-866F-497496CF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FE8A3-AD54-4FD1-89E6-0449052D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349F0-946F-486C-9B3F-46D81B63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E9B3D-BB43-4467-8065-0BE34C9D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32FB4-7E11-43EF-85C4-04F40AF3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43E-50F1-4F20-BE3F-0BBCE092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A0F84-985A-4C23-B0D7-9A560C4E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40FE5-8513-44B0-8164-5DF4A202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42A88-5B05-4A02-B9DE-CE276053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33552-3811-48AF-80E8-07FAE195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5F5C4-55BD-4FEB-861E-6C8B4510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CF9BE-DC7A-45A1-815E-F65EBFF3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73AA1-B12E-436D-8D61-6D53A3A5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708F9-8358-4395-A8CA-116F1E8F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3A503-3A6D-43E1-8C16-68F798BE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B1FB4-D0FF-44B9-891F-6317A552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9417-655A-484F-AA40-0D75020A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3725C-F5EE-4DE0-B21F-CD3BDFBD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0999F-0092-4C50-B1D1-4CBEAFF3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375EF-D3BE-4702-A314-3ADB8B3A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098C0-A110-46A6-8042-24DC6B84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D479E-C1FA-4F01-BBF3-9DD3B220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EC40D-1263-4B6A-9005-5657CA96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B9331-9375-4F16-84BF-96167891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85ABC-587E-4D6B-8F23-682B4F2D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41F82-E9B0-4200-8443-18054F1C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A0C2C-B037-42E2-BDAA-AE5F65A8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4B15-A96C-453A-ABAB-BAE59519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823ED-245F-4DE9-B87A-0A57E52A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1D692-0D32-4137-B86A-00C3D12A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DC47D-9BB1-47C5-92FB-7388CD9D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22D9F-09A1-432E-BB3C-2E544C04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D0BB8-B38B-4661-85EA-A03EB059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65DEA-7FA7-48D1-B988-0F73FA44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B13A4-4639-4E9B-BADC-55F72E4E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3894E-18F3-4842-BFCB-C0BA5C84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092C0-D279-4247-9C91-858EA468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D5535-F5D7-40C8-B1B0-2453D37C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18B-39E9-49C5-B57A-08B0F86C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19376-D288-44A4-BF80-5E151C8C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793E0-CA08-4ADD-8FE9-0158C866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A3417-3E44-40C0-A50B-C70A5A7B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A13FF-F87A-4E6A-9AC8-97DCE445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6ECAE-BB56-4464-82A7-307B9819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E7EA2-73F1-4468-8804-BF0E65B3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1CF47-9F67-4F12-8921-678C9CA2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609E1-C51F-4397-8BA2-1CB69CC9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F6DA0-2262-4B04-814D-E1956F0A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CBD1F-6867-4751-B275-9FF71CD0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6747-7481-4F30-B539-3C316221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FA42C-8ABB-4AB8-8FB1-855A52D7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FAFAC-5541-48BC-9D48-4CC14A19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8BC72-6EF6-4BDF-A4DF-0477B511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186B6-273A-4E19-9229-60188EA4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3182E-542F-4651-A1B4-C0387F03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E1C79-7512-4157-9941-AB8F5FAE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A9E0F-9D4F-4677-9F69-E20D97E9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24F6F-9AA0-47AF-A1D1-B39FB6A3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4A5D5-FD5A-4D52-A15C-40C63D84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3DA94-73FB-4FD3-9234-8712D8C0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A40A-AB41-4FC2-AF33-8C76E4D090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orkshop Consta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33F1-1280-4082-BEE5-CAC7F2874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99B7-CFFB-44F7-901D-7E95311653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BC9B-B5C2-45C3-A7C9-43D17084E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A315-99AB-45FA-A5CD-4DC2572D0C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7087-0CA7-4DE9-9CC5-443298B1A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1940-159D-45F0-8F4B-FF0301B336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C9C9-1919-4A1A-9FC3-5861689E6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531F-45C4-4AA5-83ED-75476A1FC6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8D7A-7F67-42FB-9FDD-8054D97D7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D8E6-77BF-43D5-8C86-E4BC83DDE1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1111-E029-45C5-B64C-3F92D9231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42C4-524E-4265-9527-18A54680A6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E8FB-B7CD-468D-AF8F-1D2E0AC2A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7362-F089-4E61-849F-29908373B8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DF55-5F66-4F93-BCD3-9CCE7D1A8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51D2-6C6A-4966-A214-93EB20CD34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9924-DA4F-4380-A22F-23CD361F8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A22E-70BC-4DBC-AB9E-CB2381711C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0ADF-BCA2-4848-91AE-B77C1C3A9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CB48-6394-4F61-909E-E57AB1A80D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E0CB-3243-47C8-A4F0-A74907BEB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C6E5-2F3D-4C29-8FE8-8504EF2246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925B-E492-4879-911E-B46DA1234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F042-C87B-423B-89CE-BF90EA4989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1FEF-9A9F-48D4-B4AF-B70B6D630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www.interregrobg.eu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c.europa.eu/sfc/en/2014/anti-fraud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6896160" y="260280"/>
            <a:ext cx="1905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7" descr=""/>
          <p:cNvPicPr/>
          <p:nvPr/>
        </p:nvPicPr>
        <p:blipFill>
          <a:blip r:embed="rId1"/>
          <a:stretch/>
        </p:blipFill>
        <p:spPr>
          <a:xfrm>
            <a:off x="4151160" y="216000"/>
            <a:ext cx="1606680" cy="11714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3610080" y="4267080"/>
            <a:ext cx="1923840" cy="876600"/>
          </a:xfrm>
          <a:prstGeom prst="rect">
            <a:avLst/>
          </a:prstGeom>
          <a:ln w="0">
            <a:noFill/>
          </a:ln>
        </p:spPr>
      </p:pic>
      <p:sp>
        <p:nvSpPr>
          <p:cNvPr id="547" name="Subtitle 2"/>
          <p:cNvSpPr/>
          <p:nvPr/>
        </p:nvSpPr>
        <p:spPr>
          <a:xfrm>
            <a:off x="343080" y="159696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БОРБА С ИЗМАМ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КОНФЛИКТ НА ИНТЕРЕ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в проектите, реализирани в рамките на Програмата Interreg V-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Румъния-Бълг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rebuchet MS"/>
                <a:ea typeface="Arial"/>
              </a:rPr>
              <a:t>29 август 2023, Он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Trebuchet MS"/>
                <a:ea typeface="Arial"/>
                <a:hlinkClick r:id="rId3"/>
              </a:rPr>
              <a:t>www.interregrobg.eu</a:t>
            </a:r>
            <a:r>
              <a:rPr b="1" lang="ro-RO" sz="1800" spc="-1" strike="noStrike">
                <a:solidFill>
                  <a:srgbClr val="002060"/>
                </a:solidFill>
                <a:latin typeface="Trebuchet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4" descr=""/>
          <p:cNvPicPr/>
          <p:nvPr/>
        </p:nvPicPr>
        <p:blipFill>
          <a:blip r:embed="rId4"/>
          <a:stretch/>
        </p:blipFill>
        <p:spPr>
          <a:xfrm>
            <a:off x="7920000" y="299880"/>
            <a:ext cx="1006560" cy="11401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2" descr=""/>
          <p:cNvPicPr/>
          <p:nvPr/>
        </p:nvPicPr>
        <p:blipFill>
          <a:blip r:embed="rId5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3"/>
          <p:cNvSpPr/>
          <p:nvPr/>
        </p:nvSpPr>
        <p:spPr>
          <a:xfrm>
            <a:off x="457200" y="1301760"/>
            <a:ext cx="8077320" cy="28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1" lang="bg-BG" sz="2800" spc="-1" strike="noStrike" u="sng">
                <a:solidFill>
                  <a:srgbClr val="ff0000"/>
                </a:solidFill>
                <a:uFillTx/>
                <a:latin typeface="Arial Black"/>
              </a:rPr>
              <a:t>Какво е изма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Измама </a:t>
            </a:r>
            <a:r>
              <a:rPr b="1" lang="ru-RU" sz="1800" spc="-1" strike="noStrike">
                <a:solidFill>
                  <a:srgbClr val="17375e"/>
                </a:solidFill>
                <a:latin typeface="Arial Black"/>
              </a:rPr>
              <a:t>- всяко умишлено действие или бездействие, свързано 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 Black"/>
              </a:rPr>
              <a:t>използване или представяне на неверни, неверни или непълни твърдения или докумен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5638680" y="3224160"/>
            <a:ext cx="3105360" cy="2390760"/>
          </a:xfrm>
          <a:prstGeom prst="rect">
            <a:avLst/>
          </a:prstGeom>
          <a:ln w="0">
            <a:noFill/>
          </a:ln>
        </p:spPr>
      </p:pic>
      <p:sp>
        <p:nvSpPr>
          <p:cNvPr id="552" name="TextBox 2"/>
          <p:cNvSpPr/>
          <p:nvPr/>
        </p:nvSpPr>
        <p:spPr>
          <a:xfrm>
            <a:off x="422280" y="3429000"/>
            <a:ext cx="49528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разкриване на информация в нарушение на конкретно задължение със същия еф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използване на средства за цели, различни от тези, за които са отпуснати</a:t>
            </a:r>
            <a:r>
              <a:rPr b="0" lang="ro-RO" sz="1800" spc="-1" strike="noStrike">
                <a:solidFill>
                  <a:srgbClr val="00206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5" descr=""/>
          <p:cNvPicPr/>
          <p:nvPr/>
        </p:nvPicPr>
        <p:blipFill>
          <a:blip r:embed="rId2"/>
          <a:stretch/>
        </p:blipFill>
        <p:spPr>
          <a:xfrm>
            <a:off x="387360" y="6119640"/>
            <a:ext cx="1341360" cy="609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4" descr=""/>
          <p:cNvPicPr/>
          <p:nvPr/>
        </p:nvPicPr>
        <p:blipFill>
          <a:blip r:embed="rId3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2" descr=""/>
          <p:cNvPicPr/>
          <p:nvPr/>
        </p:nvPicPr>
        <p:blipFill>
          <a:blip r:embed="rId4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0400-81C6-4825-BBE9-CC64E552A6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646C-F606-4701-A869-E51FC80D291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495360" y="952560"/>
            <a:ext cx="84582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Член 57 от Финансовия регл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Конфликт на интереси </a:t>
            </a:r>
            <a:r>
              <a:rPr b="1" lang="ru-RU" sz="1800" spc="-1" strike="noStrike">
                <a:solidFill>
                  <a:srgbClr val="002060"/>
                </a:solidFill>
                <a:latin typeface="Arial Black"/>
                <a:ea typeface="Arial"/>
              </a:rPr>
              <a:t>съществува, ако е компрометирано безпристрастното и обективно упражняване на функциите на финансов участник или други лица, участващи в изпълнението и управлението на бюджета, включително изготвянето на съответните подготвителни актове, както и в одита или контрола на бюджета поради причини, включващи: </a:t>
            </a:r>
            <a:r>
              <a:rPr b="1" lang="ro-RO" sz="1800" spc="-1" strike="noStrike">
                <a:solidFill>
                  <a:srgbClr val="002060"/>
                </a:solidFill>
                <a:latin typeface="Arial Black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4"/>
          <p:cNvSpPr/>
          <p:nvPr/>
        </p:nvSpPr>
        <p:spPr>
          <a:xfrm>
            <a:off x="495360" y="3422520"/>
            <a:ext cx="819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Семе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Политически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   </a:t>
            </a: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национален афин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Личен жив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Икономически интер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Други интереси, общи с тези на получа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299880" y="6149880"/>
            <a:ext cx="1341720" cy="6112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2" descr=""/>
          <p:cNvPicPr/>
          <p:nvPr/>
        </p:nvPicPr>
        <p:blipFill>
          <a:blip r:embed="rId2"/>
          <a:stretch/>
        </p:blipFill>
        <p:spPr>
          <a:xfrm>
            <a:off x="4118040" y="3581280"/>
            <a:ext cx="4763880" cy="18068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4" descr=""/>
          <p:cNvPicPr/>
          <p:nvPr/>
        </p:nvPicPr>
        <p:blipFill>
          <a:blip r:embed="rId3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2" descr=""/>
          <p:cNvPicPr/>
          <p:nvPr/>
        </p:nvPicPr>
        <p:blipFill>
          <a:blip r:embed="rId4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828360"/>
            <a:ext cx="777240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380520" y="979200"/>
            <a:ext cx="8534520" cy="39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 Black"/>
                <a:ea typeface="Arial"/>
              </a:rPr>
              <a:t>Документи за предотвратяване на измами и конфликт на интере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Глава 18.Б. „Мерки за борба с измамите” от Ръководството за изпълнение на проекта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Практическо ръководство за кандидати и бенефициенти на Програмата Interreg V-A Ro-Bg, достъпно на уебсайта на програмата (раздел „Публикации на програмата“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Ръководство на ЕК „Идентифициране на конфликти на интереси в процедури за възлагане на обществени поръчки за структурни действия – практическо ръководство за мениджъри“, достъпно на </a:t>
            </a:r>
            <a:r>
              <a:rPr b="0" lang="ru-RU" sz="1700" spc="-1" strike="noStrike" u="sng">
                <a:solidFill>
                  <a:srgbClr val="0000ff"/>
                </a:solidFill>
                <a:uFillTx/>
                <a:latin typeface="Arial Black"/>
                <a:ea typeface="Arial"/>
                <a:hlinkClick r:id="rId1"/>
              </a:rPr>
              <a:t>https://ec.europa.eu/sfc/en/2014/anti-fraud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;</a:t>
            </a:r>
            <a:r>
              <a:rPr b="1" lang="bg-BG" sz="1700" spc="-1" strike="noStrike">
                <a:solidFill>
                  <a:srgbClr val="002060"/>
                </a:solidFill>
                <a:latin typeface="Arial Black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2286000" y="5014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          </a:t>
            </a:r>
            <a:r>
              <a:rPr b="0" lang="bg-BG" sz="2800" spc="-1" strike="noStrike">
                <a:solidFill>
                  <a:srgbClr val="003366"/>
                </a:solidFill>
                <a:latin typeface="Arial Black"/>
              </a:rPr>
              <a:t>ПРЕДОТВРАТЯ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"/>
          <p:cNvSpPr/>
          <p:nvPr/>
        </p:nvSpPr>
        <p:spPr>
          <a:xfrm>
            <a:off x="380880" y="4900680"/>
            <a:ext cx="64008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Практическо ръководство за бенефициенти на проекти, финансирани от ЕСИ за предотвратяване на нередности/измами, достъпно на 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https://www.integritate.eu/A.N.I.-interactiv/Ghiduri.aspx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6" descr="C:\Users\gergana.mihaylova\Desktop\text-guide.png"/>
          <p:cNvPicPr/>
          <p:nvPr/>
        </p:nvPicPr>
        <p:blipFill>
          <a:blip r:embed="rId2"/>
          <a:stretch/>
        </p:blipFill>
        <p:spPr>
          <a:xfrm>
            <a:off x="6415200" y="4603680"/>
            <a:ext cx="2587680" cy="17258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" descr=""/>
          <p:cNvPicPr/>
          <p:nvPr/>
        </p:nvPicPr>
        <p:blipFill>
          <a:blip r:embed="rId3"/>
          <a:stretch/>
        </p:blipFill>
        <p:spPr>
          <a:xfrm>
            <a:off x="392040" y="6229440"/>
            <a:ext cx="1131840" cy="5144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4" descr=""/>
          <p:cNvPicPr/>
          <p:nvPr/>
        </p:nvPicPr>
        <p:blipFill>
          <a:blip r:embed="rId4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2" descr=""/>
          <p:cNvPicPr/>
          <p:nvPr/>
        </p:nvPicPr>
        <p:blipFill>
          <a:blip r:embed="rId5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520" y="1496880"/>
            <a:ext cx="77724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 Black"/>
                <a:ea typeface="Arial"/>
              </a:rPr>
              <a:t>Глава 18.Б. от Ръководството за изпълнение на проекта</a:t>
            </a:r>
            <a:br>
              <a:rPr sz="2000"/>
            </a:br>
            <a:br>
              <a:rPr sz="2000"/>
            </a:br>
            <a:r>
              <a:rPr b="1" lang="bg-BG" sz="2200" spc="-1" strike="noStrike">
                <a:solidFill>
                  <a:srgbClr val="002060"/>
                </a:solidFill>
                <a:latin typeface="Arial Black"/>
                <a:ea typeface="Arial"/>
              </a:rPr>
              <a:t>Как процедираме</a:t>
            </a:r>
            <a:r>
              <a:rPr b="1" lang="ro-RO" sz="2200" spc="-1" strike="noStrike">
                <a:solidFill>
                  <a:srgbClr val="002060"/>
                </a:solidFill>
                <a:latin typeface="Arial Black"/>
                <a:ea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1943280" y="54144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          </a:t>
            </a:r>
            <a:r>
              <a:rPr b="0" lang="bg-BG" sz="2800" spc="-1" strike="noStrike">
                <a:solidFill>
                  <a:srgbClr val="003366"/>
                </a:solidFill>
                <a:latin typeface="Arial Black"/>
              </a:rPr>
              <a:t>ПРЕДОТВРАТЯ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5" descr="C:\Users\gergana.mihaylova\Desktop\code-of-conduct-img.jpg"/>
          <p:cNvPicPr/>
          <p:nvPr/>
        </p:nvPicPr>
        <p:blipFill>
          <a:blip r:embed="rId1"/>
          <a:stretch/>
        </p:blipFill>
        <p:spPr>
          <a:xfrm>
            <a:off x="6775560" y="2889360"/>
            <a:ext cx="2124000" cy="24606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"/>
          <p:cNvPicPr/>
          <p:nvPr/>
        </p:nvPicPr>
        <p:blipFill>
          <a:blip r:embed="rId2"/>
          <a:stretch/>
        </p:blipFill>
        <p:spPr>
          <a:xfrm>
            <a:off x="425520" y="6127920"/>
            <a:ext cx="1341360" cy="609480"/>
          </a:xfrm>
          <a:prstGeom prst="rect">
            <a:avLst/>
          </a:prstGeom>
          <a:ln w="0">
            <a:noFill/>
          </a:ln>
        </p:spPr>
      </p:pic>
      <p:sp>
        <p:nvSpPr>
          <p:cNvPr id="576" name="Subtitle 2"/>
          <p:cNvSpPr/>
          <p:nvPr/>
        </p:nvSpPr>
        <p:spPr>
          <a:xfrm>
            <a:off x="372960" y="2701800"/>
            <a:ext cx="6132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68560" indent="-26856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 Black"/>
                <a:ea typeface="Arial"/>
              </a:rPr>
              <a:t>Препоръчително</a:t>
            </a:r>
            <a:r>
              <a:rPr b="1" lang="ro-RO" sz="1800" spc="-1" strike="noStrike">
                <a:solidFill>
                  <a:srgbClr val="002060"/>
                </a:solidFill>
                <a:latin typeface="Arial Black"/>
                <a:ea typeface="Arial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вътрешен кодекс за поведение и политика на конфликт на интереси </a:t>
            </a:r>
            <a:r>
              <a:rPr b="1" lang="ru-RU" sz="1800" spc="-1" strike="noStrike">
                <a:solidFill>
                  <a:srgbClr val="17375e"/>
                </a:solidFill>
                <a:latin typeface="Arial Black"/>
                <a:ea typeface="Arial"/>
              </a:rPr>
              <a:t>по отношение на проекти, финансирани от европейски фондове</a:t>
            </a:r>
            <a:r>
              <a:rPr b="1" lang="ro-RO" sz="1800" spc="-1" strike="noStrike">
                <a:solidFill>
                  <a:srgbClr val="002060"/>
                </a:solidFill>
                <a:latin typeface="Arial Black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  <a:ea typeface="Arial"/>
              </a:rPr>
              <a:t>В противен случай - насоки на ЕС или други национални разпоредби (например: Ръководство на ЕК „Идентифициране на конфликти на интереси в процедури за възлагане на обществени поръчки за структурни действия – Практическо ръководство за мениджъри“) или други национални разпоред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14" descr=""/>
          <p:cNvPicPr/>
          <p:nvPr/>
        </p:nvPicPr>
        <p:blipFill>
          <a:blip r:embed="rId3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2" descr=""/>
          <p:cNvPicPr/>
          <p:nvPr/>
        </p:nvPicPr>
        <p:blipFill>
          <a:blip r:embed="rId4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15800" y="2239560"/>
            <a:ext cx="84614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 Black"/>
                <a:ea typeface="Arial"/>
              </a:rPr>
              <a:t>Сферата на обществените поръчки - най-податлива на из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Декларации за целия персонал, участващ в процеса на възлагане на обществени поръчки - подписани, регистрирани и предоставени на структурите на Програмата (Приложение 17 в НИП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1903320" y="5446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         </a:t>
            </a:r>
            <a:r>
              <a:rPr b="0" lang="bg-BG" sz="2800" spc="-1" strike="noStrike">
                <a:solidFill>
                  <a:srgbClr val="003366"/>
                </a:solidFill>
                <a:latin typeface="Arial Black"/>
              </a:rPr>
              <a:t>ПРЕДОТВРАТЯ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6026040" y="3675240"/>
            <a:ext cx="1824120" cy="24444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301680" y="6124680"/>
            <a:ext cx="1222200" cy="555480"/>
          </a:xfrm>
          <a:prstGeom prst="rect">
            <a:avLst/>
          </a:prstGeom>
          <a:ln w="0">
            <a:noFill/>
          </a:ln>
        </p:spPr>
      </p:pic>
      <p:sp>
        <p:nvSpPr>
          <p:cNvPr id="583" name="TextBox 4"/>
          <p:cNvSpPr/>
          <p:nvPr/>
        </p:nvSpPr>
        <p:spPr>
          <a:xfrm>
            <a:off x="378000" y="3963960"/>
            <a:ext cx="519264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Да се спазва принципът „4 очи” за всички документи, изготвени в съответствие с националното законодателство/изискванията на вътрешната програма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Да се спазва принципът на ротация и произволен подбор при съставяне на комисията за оценка/подбор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646200" y="1420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 Black"/>
                <a:ea typeface="Arial"/>
              </a:rPr>
              <a:t>Глава 18.Б. от Ръководството за изпълнение на проек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14" descr=""/>
          <p:cNvPicPr/>
          <p:nvPr/>
        </p:nvPicPr>
        <p:blipFill>
          <a:blip r:embed="rId3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"/>
          <p:cNvPicPr/>
          <p:nvPr/>
        </p:nvPicPr>
        <p:blipFill>
          <a:blip r:embed="rId4"/>
          <a:stretch/>
        </p:blipFill>
        <p:spPr>
          <a:xfrm>
            <a:off x="293760" y="331920"/>
            <a:ext cx="31352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447840" y="6132600"/>
            <a:ext cx="1341360" cy="609480"/>
          </a:xfrm>
          <a:prstGeom prst="rect">
            <a:avLst/>
          </a:prstGeom>
          <a:ln w="0">
            <a:noFill/>
          </a:ln>
        </p:spPr>
      </p:pic>
      <p:sp>
        <p:nvSpPr>
          <p:cNvPr id="588" name="Content Placeholder 1"/>
          <p:cNvSpPr/>
          <p:nvPr/>
        </p:nvSpPr>
        <p:spPr>
          <a:xfrm>
            <a:off x="685800" y="990720"/>
            <a:ext cx="73152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4341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3366"/>
                </a:solidFill>
                <a:latin typeface="Trebuchet MS"/>
                <a:ea typeface="Arial"/>
              </a:rPr>
              <a:t>Нашият принцип</a:t>
            </a:r>
            <a:r>
              <a:rPr b="1" lang="ro-RO" sz="3000" spc="-1" strike="noStrike">
                <a:solidFill>
                  <a:srgbClr val="003366"/>
                </a:solidFill>
                <a:latin typeface="Trebuchet MS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341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0000"/>
                </a:solidFill>
                <a:latin typeface="Trebuchet MS"/>
                <a:ea typeface="Arial"/>
              </a:rPr>
              <a:t>Нулева толерантност към измами</a:t>
            </a:r>
            <a:r>
              <a:rPr b="1" lang="en-US" sz="3000" spc="-1" strike="noStrike">
                <a:solidFill>
                  <a:srgbClr val="ff0000"/>
                </a:solidFill>
                <a:latin typeface="Trebuchet MS"/>
                <a:ea typeface="Arial"/>
              </a:rPr>
              <a:t>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"/>
          <p:cNvPicPr/>
          <p:nvPr/>
        </p:nvPicPr>
        <p:blipFill>
          <a:blip r:embed="rId2"/>
          <a:stretch/>
        </p:blipFill>
        <p:spPr>
          <a:xfrm>
            <a:off x="339840" y="212724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3"/>
          <p:cNvSpPr/>
          <p:nvPr/>
        </p:nvSpPr>
        <p:spPr>
          <a:xfrm>
            <a:off x="293760" y="4473720"/>
            <a:ext cx="607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  <a:ea typeface="Arial"/>
              </a:rPr>
              <a:t>Системата за предупреждение на уебсайта на Програмата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  <a:ea typeface="Arial"/>
              </a:rPr>
              <a:t>https://www.interregrobg.eu/ro/contac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3"/>
          <a:stretch/>
        </p:blipFill>
        <p:spPr>
          <a:xfrm>
            <a:off x="7083360" y="4384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4" descr=""/>
          <p:cNvPicPr/>
          <p:nvPr/>
        </p:nvPicPr>
        <p:blipFill>
          <a:blip r:embed="rId4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2" descr=""/>
          <p:cNvPicPr/>
          <p:nvPr/>
        </p:nvPicPr>
        <p:blipFill>
          <a:blip r:embed="rId5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2"/>
          <p:cNvSpPr/>
          <p:nvPr/>
        </p:nvSpPr>
        <p:spPr>
          <a:xfrm>
            <a:off x="6553080" y="62946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0962-1377-46FC-A502-ECF841409A5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1"/>
          <p:cNvSpPr/>
          <p:nvPr/>
        </p:nvSpPr>
        <p:spPr>
          <a:xfrm>
            <a:off x="1522440" y="90504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 Black"/>
              </a:rPr>
              <a:t>       </a:t>
            </a:r>
            <a:r>
              <a:rPr b="0" lang="bg-BG" sz="2800" spc="-1" strike="noStrike">
                <a:solidFill>
                  <a:srgbClr val="002060"/>
                </a:solidFill>
                <a:latin typeface="Arial Black"/>
              </a:rPr>
              <a:t>ДОКЛАД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4" descr="C:\Users\gergana.mihaylova\Desktop\images.jpg"/>
          <p:cNvPicPr/>
          <p:nvPr/>
        </p:nvPicPr>
        <p:blipFill>
          <a:blip r:embed="rId1"/>
          <a:stretch/>
        </p:blipFill>
        <p:spPr>
          <a:xfrm>
            <a:off x="5764320" y="2797200"/>
            <a:ext cx="3074760" cy="28954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" descr=""/>
          <p:cNvPicPr/>
          <p:nvPr/>
        </p:nvPicPr>
        <p:blipFill>
          <a:blip r:embed="rId2"/>
          <a:stretch/>
        </p:blipFill>
        <p:spPr>
          <a:xfrm>
            <a:off x="403200" y="6016680"/>
            <a:ext cx="1341360" cy="60948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9"/>
          <p:cNvSpPr/>
          <p:nvPr/>
        </p:nvSpPr>
        <p:spPr>
          <a:xfrm>
            <a:off x="746280" y="643104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2060"/>
                </a:solidFill>
                <a:latin typeface="Trebuchet MS"/>
                <a:ea typeface="Arial"/>
              </a:rPr>
              <a:t>www.interregrobg.eu</a:t>
            </a:r>
            <a:r>
              <a:rPr b="1" lang="ro-RO" sz="1800" spc="-1" strike="noStrike">
                <a:solidFill>
                  <a:srgbClr val="002060"/>
                </a:solidFill>
                <a:latin typeface="Trebuchet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16080" y="1789200"/>
            <a:ext cx="8534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В случай на каквато и да е информация за съмнение за измама/нередност, свързана с Програмата, структурите за управление ще бъдат уведомени чрез системата за предупреждение:</a:t>
            </a:r>
            <a:r>
              <a:rPr b="1" lang="en-US" sz="18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● </a:t>
            </a:r>
            <a:r>
              <a:rPr b="0" lang="bg-BG" sz="1800" spc="-1" strike="noStrike">
                <a:solidFill>
                  <a:srgbClr val="002060"/>
                </a:solidFill>
                <a:latin typeface="Arial Black"/>
              </a:rPr>
              <a:t>За румънските бенефициен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sesizari.proiecte@mlpda.ro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● </a:t>
            </a:r>
            <a:r>
              <a:rPr b="0" lang="bg-BG" sz="1800" spc="-1" strike="noStrike">
                <a:solidFill>
                  <a:srgbClr val="002060"/>
                </a:solidFill>
                <a:latin typeface="Arial Black"/>
              </a:rPr>
              <a:t>За българските бенефициенти</a:t>
            </a: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Yana.Koleva@mrrb.government.bg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Rositsa.Draganova@mrrb.government.b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D.Petkova@mrrb.government.bg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Picture 14" descr=""/>
          <p:cNvPicPr/>
          <p:nvPr/>
        </p:nvPicPr>
        <p:blipFill>
          <a:blip r:embed="rId3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"/>
          <p:cNvPicPr/>
          <p:nvPr/>
        </p:nvPicPr>
        <p:blipFill>
          <a:blip r:embed="rId4"/>
          <a:stretch/>
        </p:blipFill>
        <p:spPr>
          <a:xfrm>
            <a:off x="293760" y="331920"/>
            <a:ext cx="3058920" cy="55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3:10:07Z</dcterms:created>
  <dc:creator>eliza.pisica</dc:creator>
  <dc:description/>
  <dc:language>en-US</dc:language>
  <cp:lastModifiedBy>Slavena ZHELEVA</cp:lastModifiedBy>
  <cp:lastPrinted>2020-06-30T12:14:09Z</cp:lastPrinted>
  <dcterms:modified xsi:type="dcterms:W3CDTF">2023-08-07T09:25:24Z</dcterms:modified>
  <cp:revision>572</cp:revision>
  <dc:subject/>
  <dc:title>Slide 1</dc:title>
</cp:coreProperties>
</file>