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D630-1B78-479C-ACEA-C3A6E8C0B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30AC-79DE-43CF-A775-E043BF281C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889-CE86-457A-886D-3AA57CB356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B621-7106-4BE8-A931-2AF5812AB6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E6B7-51B6-49A6-A932-416F8F6BA7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30EC-E2ED-4671-80F8-28C36D2297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B497-3AB9-43AC-AF57-47DE2698B7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B8BC-2A35-488A-8051-6EADD38D0C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8924-3DE9-4EAB-B274-E8927297CA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A30A-E68A-41AE-9FAF-0D894F1FFD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3A66-FC04-424E-AE37-CF65F696AA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Header Placeholder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BA6-ACA3-49B9-8138-2BF472D1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21D-10F6-4826-A4AB-CF36117C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3D466-FF12-43DB-81C0-E5292C83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F269B-9CCB-4183-B576-75AD1737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9EC85-D8DF-4463-93DB-750D1F9F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AB56B-77A5-4BE7-A718-2C8961E8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1B2AB-698A-45D4-86D6-F87C4BC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80E13-AC8E-4B53-8542-A3CE43C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E5A06-DAD6-4BCA-B72E-F271519E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E826D-1CB0-4B1B-AF52-E1676A1E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0898C-3854-4AA2-BE8B-8893C48B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6EAB5-06F9-48E2-849B-03915D18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61C-0BB5-4193-93D8-71DDFF69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F2391-5310-448D-93EE-B30E039A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E446D-EC8A-4C91-90B0-F612A77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84826-9C09-4F04-91B7-3300911D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85B32-CE84-433E-90A0-D5143F92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793B6-A05A-4C2C-9403-63B82B4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D204D-57D8-424C-B59A-FD8BEE7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0E9D7-973B-4C6D-A61A-30354A6E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9CA59-6E2E-40E3-A3D7-4F43D29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76C48-BE96-4812-9AE1-7F181C61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DCDF5-6B63-4DE0-BDD1-0376A88F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037-73D3-4D0C-934B-DF6692E3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F5FA1-8641-44DD-887D-DF884A06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450A-B79B-44BC-96A0-C60C6411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41E75-8974-4C9C-8489-95D35A0D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864A7-4565-41D4-B7DF-6F6B3E3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F701F-F6D2-43AD-ABFF-3077D24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66AD1-8FA8-400E-855B-D6B41235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6A732-D32E-4ECA-BF54-E3BFE61A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66EE5-3F4C-47CA-B584-C5628D9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8B1AA-287B-418D-B65A-F1CDFFF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0287E-7D5A-4E0D-9C3A-DFA0E73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E24-07B5-425F-B031-41FF898A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94C64-E199-4411-9713-D9D2409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8F1E2-AE9F-4956-A910-A6FEB069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B5A15-CEC0-4C0F-A70A-EDED555B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49E1E-C0E0-4503-9A61-FAA4696D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89257-7F75-42B3-B9B4-5DE60FE2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783E9-150D-43D5-86BF-56D42E04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EEF2A-5E13-4371-B596-25AADCC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4E687-9A19-4FB6-9BC9-EAD51D25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65AE7-34A8-4B2F-BD7E-D4E0C8B5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2D6F8-1C00-453F-B706-17725CB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045C-0D7F-48D3-95B8-6F9338D6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DD8AE-B663-4BDE-AF30-EA91B533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B4A5D-E27D-4237-A475-3173415F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CD29F-6577-4AD7-A6C7-7F36B16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2D9CF-C03A-4C94-A378-D88924A3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513D9-916A-4722-AC81-3A5B571E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CDAF4-2B9D-4AFD-8AB2-27C68F57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966DD-7B29-4DEA-BE48-B16F1FC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1A454-2C1D-41DC-9ADA-CD700D6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08079-6BC1-42D1-94B1-8F08F833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3255D-6220-43FE-B836-1B63496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3CF6-8B21-4B7D-BEFE-1DB77EF8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BE79B-4C4E-4DC9-A75F-C2B0C911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6D228-78C6-4EDD-BDAF-884C748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20A2B-355C-40BB-98B7-A532DEB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5BB3C-F480-43C0-A610-49B4B4BD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B406F-A819-4BD1-B8BF-501FEE11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38EEC-D24D-45E7-AE04-D01D5ED5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780E8-1FCF-4992-AA11-715CB2B8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768E-CFE0-4808-8B2B-4D970D88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7A98-BD12-4094-A1D1-3D1F2BC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B707-779A-4F2C-9D28-6EA386A7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C917-0DC4-4A32-B7C8-4144B71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5C0-848C-461E-B7A4-3EC37D4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EF7A-E314-427C-8517-26B5D5EC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D93F-B775-47ED-A556-9AA93FC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2D99-2B97-4A3D-87E2-3194D76F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4167-B20E-4288-96B6-E3C8C942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35A2-5015-4103-88E2-75B377ED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7040-3755-4601-92B2-9FC3E531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55F2-A899-45A4-AB1E-DA55159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85E3-3064-4BFC-AC8E-C6379E73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AD77-FF14-4AA4-B445-608C1C6A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A750-3D9D-44E5-B0BC-9F83EA3E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F93-FF55-4AA4-B29C-0CC23CB8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358C-2F7B-46CF-9162-5C5D55F7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0A78-5946-4A5D-A4D6-6EA0EEB7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DADE-9ADC-4C0B-8EFD-7EA062B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9FA9-1147-431F-B94F-A4D3209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2ABB-D01F-4DB7-9790-5A4B978B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7CC0-11EF-44EE-85B9-F9E26894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09E2-D6B6-40B8-AA14-505E90F1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11CB-8065-48AA-9673-4EC18C49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0F5A-3812-4829-87D4-AF6414AE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4169-2218-4960-869A-B73BBC17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0D2-C1F1-43A4-89C1-4FB4FABD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2425-C2C7-42B2-8D93-7DFD69F1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3483E-127A-4435-A809-6D552A4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F135-1671-46C0-BB0F-9750F28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415C-833C-4251-9F12-71015F4B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9C82-C0C5-44B8-9887-29E4825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1134-AA7A-41DE-BA31-1491C9D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AA79-866B-4859-9EC1-DCF38F8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7864-D923-4D83-BFA8-612031B3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CAF2E-22C2-418B-957F-D4A779CF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AABF-62A2-4265-8713-076A0374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675-B6A7-4CC4-83BA-95B48D6C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3D79-2FAD-4329-8232-2277645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FFE7-2CD7-4FFD-8379-C949CE4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3E26-A0BC-4CEB-AB2D-2A803DC5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4CFA-0E79-4F77-8D4E-3A08AB7B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CCF5-C79F-4587-B9CB-8D51718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0FEC-42E8-4CC1-A837-EA4C685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8ACA-7DA4-428F-BC76-32F628A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5BB0-B8D9-490E-8A2A-ADF36037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F3FA-E435-4E21-85B5-7CCC04A6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40CE8-030E-4ADC-BC8C-4E1A4C22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C50-3F85-482E-A08E-228A2F49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735F5-11F9-457A-A289-51A9A542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A4C7-D3CC-432F-83D5-2E49F32B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2DDBE-6A7E-4DDE-943E-39D3D8BA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64BD-69BC-42B3-9819-D693F84F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D42A-D689-42FA-9207-4B4BDA1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C3A9-F8CD-445E-A968-8F04F40F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3585-6C8C-4E4A-A626-8E787B6D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A6B0-4A13-49E8-9A1C-10CF893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DF337-CA4D-45CF-B65A-97D8516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85E6D-DC1B-49EB-8D26-245E9C9A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34A-38E6-42F0-83A4-3FBF265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EDCC-E71D-414B-B1F6-C201668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CD435-6450-402D-8C93-446EF743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26B1-1415-4BE2-A3BD-EED3B105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271AA-8176-4F9F-95C6-5383626A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14A04-238E-48BD-835F-91485528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4545-CD00-494A-9797-F729472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412C5-5A3C-43A8-B2D7-3D4223BB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D266C-7DA4-42FD-8EDC-1C910053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C602-7596-4017-86FF-08257F92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A9BC7-C190-4E77-A5AB-0064C80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266-746D-4AB8-AB57-A7747A6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DE8E7-E418-4B17-A513-9350021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2AD34-C786-44B9-BD59-7A05C5E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6CF6-38FE-4B35-858E-39ED47E1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606D3-9F5E-47A5-80C2-FA7F294D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2907-8B0F-477C-BB02-B7917016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6555-1077-42D4-A001-C63ECD35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9A695-457B-4626-BEE6-CF653EA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4476-83F6-49B1-98AE-50AB2661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61038-AE18-4FE5-8557-2A60FAC1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4FE8B-8586-48F9-9DA4-A78B3B91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B69-5303-4FD8-BAB1-3EAD91F6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E80FF-64BF-49A4-9222-B7D83A48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1EA41-AEAB-486E-AFD4-94B0B91D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7F18A-E31B-4CF8-B2BE-06D78281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9F1AF-7855-4892-AF63-FF70196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3F422-E9A1-4D10-8E8B-BD89842F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EF1B-4131-4359-BB2D-876B3E67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6FF2-89B8-48A9-BD33-4B45FE77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C591E-02ED-4E3C-AA3F-FB6938C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7CF65-5401-4FEE-A017-8DEB268C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9A694-BFC5-426B-BE34-C7150140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6151-7221-4630-A292-7BDD6502B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orkshop Const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EF0-E6E8-4ECE-96B0-D4DAEA0EF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A699-595F-43D9-BE9C-56D6233DFA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7DE8-4584-45A6-AB67-2719CC36C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EB5C-7E94-41BF-83B9-5F8A36D5F0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261-D79C-4944-A085-741C404DA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6ABD-6AA9-4A24-8F4A-C4C793B838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DD17-D01A-434F-9E62-A7E81A789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33E5-60E8-48C7-92E6-313667461E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AA42-2AAC-46BA-A07B-99AB47AE2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D308-25C4-4795-BA9D-72A4D5B349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D4FF-2F0D-4716-B729-77CC6BD8C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D3B9-94DC-470A-8729-948F98377A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5EC-D443-4240-BC43-02CD5E884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BB3-B612-42B3-8759-075717576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61BB-5492-4670-9BB0-6E11F27BA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932-2663-48F5-9CBB-A0405194D0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4F27-D5E6-43A2-9C15-B4D2D6DDD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95DC-BF9F-46F7-8B20-6B3D2DE9B3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7701-BCE0-401A-BD70-DDDD618DC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266A-D25B-44D0-81C5-19659B540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C10-77E5-498C-8CA2-AA6D530E4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C71A-DCDF-4228-910A-6C7CF74B8E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892B-D898-4934-8AC3-C7B3353ED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B05-10F3-4B18-889C-50408CA74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AD28-B603-49AE-98F0-D1964DD3A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hyperlink" Target="http://www.interregrobg.eu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hyperlink" Target="http://www.interregrobg.e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hyperlink" Target="https://ems-robg.mdrap.ro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hyperlink" Target="https://www.youtube.com/watch?v=MryLtFjyJik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6896160" y="26028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4151160" y="216000"/>
            <a:ext cx="1606680" cy="1171440"/>
          </a:xfrm>
          <a:prstGeom prst="rect">
            <a:avLst/>
          </a:prstGeom>
          <a:ln w="0">
            <a:noFill/>
          </a:ln>
        </p:spPr>
      </p:pic>
      <p:pic>
        <p:nvPicPr>
          <p:cNvPr id="546" name="Content Placeholder 11" descr=""/>
          <p:cNvPicPr/>
          <p:nvPr/>
        </p:nvPicPr>
        <p:blipFill>
          <a:blip r:embed="rId2"/>
          <a:stretch/>
        </p:blipFill>
        <p:spPr>
          <a:xfrm>
            <a:off x="6022800" y="216000"/>
            <a:ext cx="1447920" cy="1171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"/>
          <p:cNvPicPr/>
          <p:nvPr/>
        </p:nvPicPr>
        <p:blipFill>
          <a:blip r:embed="rId3"/>
          <a:stretch/>
        </p:blipFill>
        <p:spPr>
          <a:xfrm>
            <a:off x="237960" y="223920"/>
            <a:ext cx="3780000" cy="995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4"/>
          <a:stretch/>
        </p:blipFill>
        <p:spPr>
          <a:xfrm>
            <a:off x="3610080" y="4267080"/>
            <a:ext cx="1923840" cy="876600"/>
          </a:xfrm>
          <a:prstGeom prst="rect">
            <a:avLst/>
          </a:prstGeom>
          <a:ln w="0">
            <a:noFill/>
          </a:ln>
        </p:spPr>
      </p:pic>
      <p:sp>
        <p:nvSpPr>
          <p:cNvPr id="549" name="Subtitle 2"/>
          <p:cNvSpPr/>
          <p:nvPr/>
        </p:nvSpPr>
        <p:spPr>
          <a:xfrm>
            <a:off x="376200" y="1986120"/>
            <a:ext cx="84582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Често задавани въпроси и искания относно е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17</a:t>
            </a:r>
            <a:r>
              <a:rPr b="1" lang="bg-BG" sz="1800" spc="-1" strike="noStrike" baseline="30000">
                <a:solidFill>
                  <a:srgbClr val="ff0000"/>
                </a:solidFill>
                <a:latin typeface="Trebuchet MS"/>
                <a:ea typeface="Arial"/>
              </a:rPr>
              <a:t>т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Trebuchet MS"/>
                <a:ea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 24</a:t>
            </a:r>
            <a:r>
              <a:rPr b="1" lang="bg-BG" sz="1800" spc="-1" strike="noStrike" baseline="30000">
                <a:solidFill>
                  <a:srgbClr val="ff0000"/>
                </a:solidFill>
                <a:latin typeface="Trebuchet MS"/>
                <a:ea typeface="Arial"/>
              </a:rPr>
              <a:t>т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Trebuchet MS"/>
                <a:ea typeface="Arial"/>
              </a:rPr>
              <a:t>Ноември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  <a:ea typeface="Arial"/>
              </a:rPr>
              <a:t>, 2021, </a:t>
            </a:r>
            <a:r>
              <a:rPr b="1" lang="bg-BG" sz="1800" spc="-1" strike="noStrike">
                <a:solidFill>
                  <a:srgbClr val="ff0000"/>
                </a:solidFill>
                <a:latin typeface="Trebuchet MS"/>
                <a:ea typeface="Arial"/>
              </a:rPr>
              <a:t>Он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5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6"/>
          <a:stretch/>
        </p:blipFill>
        <p:spPr>
          <a:xfrm>
            <a:off x="7689960" y="236520"/>
            <a:ext cx="987480" cy="969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"/>
          <p:cNvSpPr/>
          <p:nvPr/>
        </p:nvSpPr>
        <p:spPr>
          <a:xfrm>
            <a:off x="333360" y="915840"/>
            <a:ext cx="83757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3366"/>
                </a:solidFill>
                <a:latin typeface="Trebuchet MS"/>
              </a:rPr>
              <a:t>Опитвам се да въведа информация отнасяща се до процедура за възлагане на обществена поръчка в секция „</a:t>
            </a:r>
            <a:r>
              <a:rPr b="1" lang="en-US" sz="1900" spc="-1" strike="noStrike">
                <a:solidFill>
                  <a:srgbClr val="003366"/>
                </a:solidFill>
                <a:latin typeface="Trebuchet MS"/>
              </a:rPr>
              <a:t>Supplementary Information - Project Procurements</a:t>
            </a:r>
            <a:r>
              <a:rPr b="1" lang="bg-BG" sz="1900" spc="-1" strike="noStrike">
                <a:solidFill>
                  <a:srgbClr val="003366"/>
                </a:solidFill>
                <a:latin typeface="Trebuchet MS"/>
              </a:rPr>
              <a:t>“, но получавам следната грешка                     като искам да запазя информацията</a:t>
            </a:r>
            <a:r>
              <a:rPr b="1" lang="en-US" sz="1900" spc="-1" strike="noStrike">
                <a:solidFill>
                  <a:srgbClr val="003366"/>
                </a:solidFill>
                <a:latin typeface="Trebuchet MS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9" descr=""/>
          <p:cNvPicPr/>
          <p:nvPr/>
        </p:nvPicPr>
        <p:blipFill>
          <a:blip r:embed="rId4"/>
          <a:stretch/>
        </p:blipFill>
        <p:spPr>
          <a:xfrm>
            <a:off x="4876920" y="1839960"/>
            <a:ext cx="1936800" cy="3286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"/>
          <p:cNvSpPr/>
          <p:nvPr/>
        </p:nvSpPr>
        <p:spPr>
          <a:xfrm>
            <a:off x="169920" y="2087640"/>
            <a:ext cx="5087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ази грешка е генерирана от еМС в случай, че се опитвате да запазите информация за обществена поръчка без да сте въвели данни в полетата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umber/Contract dat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; 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am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истемата ви позволява да създадете нови обществени поръчки, но не ви позволява да запазите информацията, която сте въвели в случай, че полето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am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на някоя от създадените обществени поръчки е праз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ези ситуаци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рябва да проверите всички обществени поръчки и да намерите тази, на която това поле е праз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ледовател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за да прекратите грешката, може да изтриете тази обществена поръчка, в случай, че не се нуждаете от тази информация или просто да въведете някакви данни в полето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Contract Name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гава системата ще я запаз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257800" y="2593800"/>
            <a:ext cx="3651120" cy="24973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ubtitle 2"/>
          <p:cNvSpPr/>
          <p:nvPr/>
        </p:nvSpPr>
        <p:spPr>
          <a:xfrm>
            <a:off x="376200" y="1986120"/>
            <a:ext cx="84582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Благодарим за Вашето внимание</a:t>
            </a:r>
            <a:r>
              <a:rPr b="1" i="1" lang="ro-RO" sz="2400" spc="-1" strike="noStrike">
                <a:solidFill>
                  <a:srgbClr val="000000"/>
                </a:solidFill>
                <a:latin typeface="Trebuchet MS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Trebuchet MS"/>
                <a:ea typeface="Arial"/>
                <a:hlinkClick r:id="rId4"/>
              </a:rPr>
              <a:t>www.interregrobg.eu</a:t>
            </a:r>
            <a:r>
              <a:rPr b="1" lang="ro-RO" sz="1800" spc="-1" strike="noStrike">
                <a:solidFill>
                  <a:srgbClr val="00206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1828800" y="928800"/>
            <a:ext cx="5549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   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Не можем да влезем в система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4"/>
          <p:cNvSpPr/>
          <p:nvPr/>
        </p:nvSpPr>
        <p:spPr>
          <a:xfrm>
            <a:off x="484200" y="2924280"/>
            <a:ext cx="8051760" cy="1067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</a:rPr>
              <a:t>Потребителят не е влизал в системата за дълъг период от време (месеци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еМС деактивира профили, които не са били използвани за дълъг период от врем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</a:rPr>
              <a:t>В тези ситуации, Вие трябва да се свържете със Съвместният Секретариат, за да активират профила Ви нано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479520" y="1511280"/>
            <a:ext cx="8053200" cy="131076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ят е написал паролата грешно много път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ози случай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ят трябва да изчака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60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минути преди да се опита да влезе отново в система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случай, че сте забравили паролата, може да я промените натискайки бутона от началната страница               и да следвате стъпките за нейната промя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3" descr=""/>
          <p:cNvPicPr/>
          <p:nvPr/>
        </p:nvPicPr>
        <p:blipFill>
          <a:blip r:embed="rId4"/>
          <a:stretch/>
        </p:blipFill>
        <p:spPr>
          <a:xfrm>
            <a:off x="4724280" y="2327400"/>
            <a:ext cx="1067040" cy="2188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1"/>
          <p:cNvSpPr/>
          <p:nvPr/>
        </p:nvSpPr>
        <p:spPr>
          <a:xfrm>
            <a:off x="479520" y="4056120"/>
            <a:ext cx="8039160" cy="8240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ското име е написано греш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ай-честата грешка е да влезеш в системата със своя имейл адрес вместо с потребителското им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дсигурете се, че сте написали правилното потребителско им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2"/>
          <p:cNvSpPr/>
          <p:nvPr/>
        </p:nvSpPr>
        <p:spPr>
          <a:xfrm>
            <a:off x="468360" y="4976640"/>
            <a:ext cx="8064360" cy="1169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требителят се опитва да влезе в друга платформ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ва може да е проблем за бенефициентите изпълняващи проекти по различни Програм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Подсигурете се, че влизате на правилния интернет адрес/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url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rebuchet MS"/>
                <a:ea typeface="Calibri"/>
                <a:hlinkClick r:id="rId5"/>
              </a:rPr>
              <a:t>https://ems-robg.mdrap.r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1828800" y="987480"/>
            <a:ext cx="6095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Искаме да променим потребителя на Водещият партньор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 (Lead Partn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" descr=""/>
          <p:cNvPicPr/>
          <p:nvPr/>
        </p:nvPicPr>
        <p:blipFill>
          <a:blip r:embed="rId4"/>
          <a:stretch/>
        </p:blipFill>
        <p:spPr>
          <a:xfrm>
            <a:off x="228600" y="1879560"/>
            <a:ext cx="8763120" cy="229716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228600" y="4176720"/>
            <a:ext cx="8798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Формуляра за кандидатстване –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Trebuchet MS"/>
                <a:ea typeface="Calibri"/>
              </a:rPr>
              <a:t>апликационната форма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е предаден в системата на потребителя на Водещия партньор още на фаза договориране на проекта, преди подписване на договора за финансиране. Този потребител има възможността да иска промяна на апликационната форм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ва е единствения потребител, който може да й прави промен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може да създава и попълва Проектни Доклади и да прави промени в секция „Допълнителна информация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(Supplementary information)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Затова е важно да сте сигурни, че Водещият партньор иска тази промяна, следователно се изисква да изпрати официално писмо подписано от легалния представител отнасяйки се до тази промя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"/>
          <p:cNvSpPr/>
          <p:nvPr/>
        </p:nvSpPr>
        <p:spPr>
          <a:xfrm>
            <a:off x="914400" y="1017720"/>
            <a:ext cx="7478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Как да предоставя достъп в еМС на партньорите в проект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533520" y="17812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Единствения потребител, който може да извършва това действие в системата е Водещият партньо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(Lead Partner)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4"/>
          <a:stretch/>
        </p:blipFill>
        <p:spPr>
          <a:xfrm>
            <a:off x="609480" y="2629080"/>
            <a:ext cx="7848720" cy="34905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5"/>
          <p:cNvSpPr/>
          <p:nvPr/>
        </p:nvSpPr>
        <p:spPr>
          <a:xfrm>
            <a:off x="1600200" y="2365200"/>
            <a:ext cx="664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Урок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/ tutorial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rebuchet MS"/>
                <a:ea typeface="Calibri"/>
                <a:hlinkClick r:id="rId5"/>
              </a:rPr>
              <a:t>https://www.youtube.com/watch?v=MryLtFjyJ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433440" y="1365120"/>
            <a:ext cx="83059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По време на искане за промян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 (Modification request)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 трябва да изтрия доставка на услуга/ оборудване (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deliverable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)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от апликационната форм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,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но еМС не ми позволява това действие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.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Как мога да изтрия тази </a:t>
            </a:r>
            <a:r>
              <a:rPr b="1" lang="ru-RU" sz="2300" spc="-1" strike="noStrike">
                <a:solidFill>
                  <a:srgbClr val="003366"/>
                </a:solidFill>
                <a:latin typeface="Trebuchet MS"/>
              </a:rPr>
              <a:t>доставка на услуга/ оборудване (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deliverable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)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3"/>
          <p:cNvSpPr/>
          <p:nvPr/>
        </p:nvSpPr>
        <p:spPr>
          <a:xfrm>
            <a:off x="519120" y="3406680"/>
            <a:ext cx="8381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Ако има създаден Проектен Доклад за този проек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доставки на услуги/ оборудване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deliverable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 дейностите от апликационната форма не могат да бъдат изтрит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защото те са свързани с този доклад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независимо от факта, че техния статус е „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started/ not started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“ – започнал/ не е започнал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тази ситуац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решението е да се изтрие цялата информация отнасяща се до съответната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доставка на услуга/ оборудване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deliverable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 да се замести със следния текс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: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t applicable anymore from AF version 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”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– Вече не е приложимо от апликационна форма версия 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403200" y="100980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Промених крайната дата на проекта, какво друго трябва да променя в апликационната форма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119160" y="2122560"/>
            <a:ext cx="875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За първата и втората покана за проектни предложен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роектит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бяха изпращани на хартия и вкарани в еМС от Съвместния Секретариа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За проектите от тези покан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ериодите на докладване могат да се променят в еМС от бенефициентит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ъгласно одобрения Наръчник за изпълнение на проектит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(PIM)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напредъка на дейностите трябва да се докладва на всеки 6 месец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и следвайки тази логик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ериодите на докладване трябва да се формират в системата на всеки 6 месец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ледовател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случай че периода на изпълнение се удължи, водещият партньор трябва да промени периодите следвайки този принцип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екция „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Workplan - Define period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838080" y="1833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1. 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Периоди на докладване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(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секция „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Define periods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“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119160" y="4184640"/>
            <a:ext cx="8781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случай, че проекта е изпратен по третата покана за проектни предложения, периодите на докладване автоматично се създават от системата на всеки три месец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като се взима в предвид начална и крайна дата на проек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ледователн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ази ситуация водещия партньор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(LB)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е може да променя периодите на докладване в секция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Workplan - Define periods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ъпреки тов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лед промяна на крайната дата на проек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одещият партньор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LB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рябва да натисне бутон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Recreate Period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а долния край на секция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Define periods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1" descr=""/>
          <p:cNvPicPr/>
          <p:nvPr/>
        </p:nvPicPr>
        <p:blipFill>
          <a:blip r:embed="rId4"/>
          <a:stretch/>
        </p:blipFill>
        <p:spPr>
          <a:xfrm>
            <a:off x="2077920" y="5807160"/>
            <a:ext cx="5318280" cy="7459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85800" y="1295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2. 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Работен план (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Workplan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4"/>
          <a:stretch/>
        </p:blipFill>
        <p:spPr>
          <a:xfrm>
            <a:off x="169920" y="4430880"/>
            <a:ext cx="8866080" cy="10746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"/>
          <p:cNvPicPr/>
          <p:nvPr/>
        </p:nvPicPr>
        <p:blipFill>
          <a:blip r:embed="rId5"/>
          <a:stretch/>
        </p:blipFill>
        <p:spPr>
          <a:xfrm>
            <a:off x="133200" y="2340000"/>
            <a:ext cx="8867880" cy="9208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2"/>
          <p:cNvSpPr/>
          <p:nvPr/>
        </p:nvSpPr>
        <p:spPr>
          <a:xfrm>
            <a:off x="484200" y="1852560"/>
            <a:ext cx="72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Крайна дата на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изходните индикатори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(out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490680" y="35226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Крайна дата за всяка дейност и крайна дата за всяка доставка на услуга/ оборудване (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deliverable</a:t>
            </a:r>
            <a:r>
              <a:rPr b="1" lang="bg-BG" sz="1800" spc="-1" strike="noStrike">
                <a:solidFill>
                  <a:srgbClr val="0033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"/>
          <p:cNvSpPr/>
          <p:nvPr/>
        </p:nvSpPr>
        <p:spPr>
          <a:xfrm>
            <a:off x="457200" y="106668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Искам да създам нов Проектен доклад, но нямам тази опция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. </a:t>
            </a: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Какво трябва да направя</a:t>
            </a:r>
            <a:r>
              <a:rPr b="1" lang="en-US" sz="2300" spc="-1" strike="noStrike">
                <a:solidFill>
                  <a:srgbClr val="003366"/>
                </a:solidFill>
                <a:latin typeface="Trebuchet MS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208080" y="1812960"/>
            <a:ext cx="880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е можете да видите бут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create button”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, защото имате друг доклад в прогрес (не изпратен към СС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). В този случай, първо трябва да идентифицирате този доклад и да решите дали да го завършите или той може да бъде изтр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ко искате да завършите този доклад, ще имате опцията да създадете нов доклад само след като изпратите то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ко доклада в прогрес може да бъде изтрит, тук могат да възникн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ва вида ситу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209520" y="3567240"/>
            <a:ext cx="870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1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Доклада никога не е бил изпращан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статусът под полето „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Date Of Project Report First Submission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“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рябва да е в прогрес (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In Progress</a:t>
            </a:r>
            <a:r>
              <a:rPr b="0" i="1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това означава, че той може да бъде изтри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8" descr=""/>
          <p:cNvPicPr/>
          <p:nvPr/>
        </p:nvPicPr>
        <p:blipFill>
          <a:blip r:embed="rId4"/>
          <a:stretch/>
        </p:blipFill>
        <p:spPr>
          <a:xfrm>
            <a:off x="447840" y="4489560"/>
            <a:ext cx="8086680" cy="187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5"/>
          <a:stretch/>
        </p:blipFill>
        <p:spPr>
          <a:xfrm>
            <a:off x="447840" y="4672080"/>
            <a:ext cx="8076960" cy="2696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304920" y="5059440"/>
            <a:ext cx="85341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2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Доклада първоначално е бил изпратен, но е бил върнат от СС/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JS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В тази ситуац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нямате опцията да изтриете доклада и трябва да поискате това от СС/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Calibri"/>
              </a:rPr>
              <a:t>J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0" descr=""/>
          <p:cNvPicPr/>
          <p:nvPr/>
        </p:nvPicPr>
        <p:blipFill>
          <a:blip r:embed="rId6"/>
          <a:stretch/>
        </p:blipFill>
        <p:spPr>
          <a:xfrm>
            <a:off x="484200" y="5708520"/>
            <a:ext cx="809784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7"/>
          <a:stretch/>
        </p:blipFill>
        <p:spPr>
          <a:xfrm>
            <a:off x="473040" y="5886360"/>
            <a:ext cx="8099640" cy="1778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"/>
          <p:cNvSpPr/>
          <p:nvPr/>
        </p:nvSpPr>
        <p:spPr>
          <a:xfrm>
            <a:off x="457200" y="1066680"/>
            <a:ext cx="830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3366"/>
                </a:solidFill>
                <a:latin typeface="Trebuchet MS"/>
              </a:rPr>
              <a:t>Опитвам се да изпратя партньорски доклад, но получавам следната греш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2408400" cy="633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2"/>
          <a:stretch/>
        </p:blipFill>
        <p:spPr>
          <a:xfrm>
            <a:off x="387360" y="6119640"/>
            <a:ext cx="1341360" cy="609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8381880" y="6119640"/>
            <a:ext cx="654120" cy="64152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235080" y="1914480"/>
            <a:ext cx="8665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Когато попълвате партньорски доклад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след вкарването на разходите в Списъка на разходите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oE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трябва винаги да попълвате секция „Принос и прогноза“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Contribution and Forecast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В противен случай системата ще генерира тази грешка, когато натиснете бу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o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на за проверка на доклада (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check report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Когато попълвате тази секция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реално разходеното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+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прогнозат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rebuchet MS"/>
                <a:ea typeface="Arial"/>
              </a:rPr>
              <a:t>трябва да равнят на общата сума на допустимия бюдже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35080" y="5649840"/>
            <a:ext cx="8665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3" descr=""/>
          <p:cNvPicPr/>
          <p:nvPr/>
        </p:nvPicPr>
        <p:blipFill>
          <a:blip r:embed="rId4"/>
          <a:stretch/>
        </p:blipFill>
        <p:spPr>
          <a:xfrm>
            <a:off x="4724280" y="1528920"/>
            <a:ext cx="3535560" cy="361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5"/>
          <a:stretch/>
        </p:blipFill>
        <p:spPr>
          <a:xfrm>
            <a:off x="714240" y="3286080"/>
            <a:ext cx="7791480" cy="28098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Slavena ZHELEVA</cp:lastModifiedBy>
  <cp:lastPrinted>2020-06-30T12:14:09Z</cp:lastPrinted>
  <dcterms:modified xsi:type="dcterms:W3CDTF">2021-11-03T12:46:38Z</dcterms:modified>
  <cp:revision>613</cp:revision>
  <dc:subject/>
  <dc:title>Slide 1</dc:title>
</cp:coreProperties>
</file>