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D8EA-AE21-48E7-85E6-F58D0AB8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înșelăciune comisă de cineva, de obicei pentru a realiza un profit material de pe urma atingerii drepturilor altuia Si: 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ție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Sumă sustrasă prin înșelăciu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CA59-3083-4500-9ACF-3BBA555FE0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4F92-AAD6-40C2-97A1-511B97DA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F0FC-4D86-4B5F-918A-EF1BB801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C7E2-BB50-467F-B79D-1A1B57F9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980-6BA5-4D8A-A3F2-71F29AE6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F0E-77A9-4AD1-B690-B82566DCB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DA1-AFD7-4B60-BA80-F9106A05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162-8B12-4777-8631-31DD845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90A17-B0F6-47C2-BB6A-803BF40B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C42E-E8C0-48F3-9DA9-EEAB642E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D272B-2061-4171-8D0F-3748F0F3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88760-BE49-4536-8B25-ECD92595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52158-6460-4523-AF5A-60F4B05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E3066-735D-4ECC-B204-9EC5D38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435E-E66C-45D3-807E-E6211692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70BB4-9987-4263-B466-151A3031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A3D5E-70B1-43B5-B356-D7E17734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A9BC3-B897-4162-A0BB-D02D1EB9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C34-7507-4B1A-B87E-6689DAA2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CDC14-860E-4F78-9CB8-C6E82A0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82FCE-CEB2-417B-B7A1-65F09B3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6E228-8CD5-4863-8FDA-888F9AB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6BA9F-9333-4C25-B1FC-65F04D5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75B4-EAD9-44A9-99B4-86DD2CE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FF4CB-F888-41EA-B169-A8C9FB4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9CE1D-3961-449C-846A-6F4BD7D7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69B8F-1629-4622-A530-1BDC553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BA828-5B16-46EC-8D26-5AB264EC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2C938-75AF-45FD-95BF-D3DB87FF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19D-C9EE-48CA-929A-AEC4650A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F4986-7D30-4C01-8524-BA562E46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9F94D-C43D-46C5-B9CE-AD18F303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9B8E0-997E-4417-AF8B-99E91510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2A1BE-2707-4459-9F5A-2147FA5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F0E5D-B251-45EC-8487-781213B3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CE569-7111-49D5-BAFC-E9F8A34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A57D2-7DF6-4FD4-9234-26D5F3A4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6295F-4B24-4715-A4F7-E7FC1EF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1BE73-EAE4-4285-9512-A10C575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B7F03-B02A-4168-A861-67D3E1D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82E-870B-4A45-8A5B-630F9BFD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7CE3-7342-450A-B6D5-4034B9B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AE61B-9966-49E5-969F-1BCBEB84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50037-C56D-4F07-8767-AE9FAC20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5B908-7A1F-4037-B54C-8959B0D2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14B9D-DE01-4613-9A8A-9884EE7E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A7546-4DCD-4C78-B702-8290583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E1AA6-3483-4531-A30B-0FD18CF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4E588-146F-4705-ACE6-40FD580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1406C-DB2B-4702-84D9-5B27337F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6B4C7-2DA2-40DA-9D10-1412D94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3D71-DB01-4E49-9D8A-841BC40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74F64-5D30-4346-888A-47F183E1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6FE31-089B-436C-9A84-6C68D89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DA3F3-9DF3-4010-827F-08CC2423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C4D7D-7CAC-40DD-80F3-585E98FA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214D4-879E-4876-8A1C-EFC43B6A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57BC6-0151-425F-811D-E5461EA7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66E29-6617-4AC1-B992-A6E7C77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EE7F7-079D-405A-BFA3-24E64BD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672B5-0282-4552-8B8E-D50C6C4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064C4-6635-4AC3-BC93-446CDE0D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8C6C-F9F6-486C-BDFF-2176EEA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A0B1E-C68D-44D4-9B6B-2B2B9F9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DF0BB-8859-4A6B-AAD8-13C304E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04CCA-6940-477C-B60A-C6AD458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06256-B6E2-4318-9E81-3BFA3BFB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17743-ADF6-47B8-B4A7-93768AF4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80EB4-4D32-46F0-AE3A-F72A0442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03EA6-7069-4A5F-B57A-E9A7F0FC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D21-D7BF-4FB1-AD71-17E18B13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E24-8858-48A9-9AF8-E2C4F4D3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3EB-A0D8-4394-BE3E-82FBC71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61E0-AA9F-4D2F-8FA6-E7355559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ED1-10CC-4E9D-979E-EB82F2A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0B4D-D4C5-43F2-AD34-34EEEC7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522E-D56E-40E5-AE9B-786C02E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DD4-1819-4FD9-A26D-6998B9CB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56B6-79D1-4C13-9F82-278EE8D2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FD8A-C3D1-4958-A498-D2B6775B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0AAE-416F-459F-8609-F8612F1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53C9-6835-446E-8568-D9AC4EE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AFA5-3931-448E-8308-ED77571B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6C03-5087-4E49-B065-02FE45D2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D524-DC1B-4B3E-80FB-217062AF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ECA-F0B2-4543-BD64-6DF5265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BABB-6208-4142-9205-A6BD8D02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93CA-5108-42EF-8979-53E999D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956D-1C0E-486E-8A9B-C75E0778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080E-9902-4DEC-9F2C-1EC952A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FB4B-FB64-4656-84A1-7143FF3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D1D2-B3C3-4237-8D6A-A54F99D5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398C-162B-4E1B-A4AA-9DCF8547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560F-74A8-40F6-931E-07890EEE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BAF0-299A-4C8F-A62F-E1174F4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BDA3-BF0E-4139-8A05-3217C2A8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A26-02EA-47F0-AB7C-44A764E3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A295-38CE-4CC9-A1C4-8F650406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3ECE-5976-4082-8FD8-53259F4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FF56-391D-412A-8BC9-BA682F4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2831-DE6F-4156-8BD2-7240D4DF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0D90B-0A26-499F-88C2-CCCEA41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009B-D434-4B9C-A90C-42FA974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A749-1D72-4983-8EB8-62EBDD82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54D1-F891-4F04-B56F-786DF95C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1B9A-AFA0-4D7A-84C4-504BE7B5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3C36-5A30-4286-9CEA-E5CCF8B1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AB9-6DF1-4DFF-9C93-BDA02F15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BC24-BABD-4182-8C2D-3E6B6003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3AF3-DC5E-4BA7-B8AA-F67C4DC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BE05-DC02-42BC-B66D-A8A9430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FB2F-B9D0-4CD0-B159-391CF247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F0BE-26D3-42CA-BB98-A15F1BFC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9DE5-D5CC-4E6D-AFF0-2412A50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8959-E7A9-40F6-80E0-15FA8FC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3555C-B44A-4559-8E08-CC597ED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1A8D-A5FD-4836-B3A0-ABB179A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AF45-658F-4013-88EE-F27234C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5C6-8E94-4B1B-8AA7-434E1EC2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C342C-B0E8-451A-A672-30145DD1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1FE0-E0EE-4A56-A20B-8A053792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B9FF-CDCB-4022-8CD7-53A54243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A32D-2EBF-4C91-9760-3EE819E7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F632-E6F4-4841-84BF-1F37C7A1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4F67C-A630-49F5-82E3-D697515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A433-03CA-47C7-8314-7C9B10FC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D9D3B-DB61-459C-96AA-338FCA3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2DC8-31F4-4EAD-A46B-5F1E22B9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3C11-F52B-4165-926D-F5B8558C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B65-A42C-4EF0-BCF8-0B5C2EC4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7DC30-1426-4311-8A46-A9D5D632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0389-3E0E-4516-90D9-64945B2C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213A2-7894-435A-835C-313E4C4B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DDE33-A5A1-48AB-9962-AC8BFF97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CBBD-E4E7-4342-BC02-AF99BE3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53866-025C-420D-B6B8-E3062118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A14F-46F1-4933-9E80-08273E34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63E9F-855D-4AD8-9523-00E501FF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4DB8-104C-4837-B52D-5DB5295D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06268-D4D1-4AC6-A86B-7FFF57B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B89-C532-45F2-B192-BC6829E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B20C-D66E-451F-9B5D-F8D9C06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692CE-1743-431E-AC63-9D6E290A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8B616-EC88-41E4-BBA0-645DB5B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5A26-1FE6-4F99-BAA6-E83EA76D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B5B2-0BCB-41D9-98F5-6D7637DC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CF23-F59D-44B5-BC0A-9964326C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F38C-F33B-4F67-9BBE-5755C69F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C08C-6AC0-4799-A131-DD97937C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5F50B-FC57-44AA-A66D-9DE1E1AA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61108-8E43-4562-8022-943A1440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65D-3635-4402-B1F3-3C26AF5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76DF9-D6A4-47E8-A504-6C7B8D45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DA70-1D00-42E4-AEF4-95FF94E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279D5-7F73-40A3-87E3-5CB60EF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872D8-0DC4-4C06-AE01-124A583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654D4-0989-470B-8576-137B697D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1C462-CF0E-4593-966B-17943E34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9034-2707-4B42-AFA6-1CB42212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854EC-9F58-438B-9D25-6755FA23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DEC9B-C27C-4A34-84F8-76AC6BD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D3855-EF0C-4A4F-83BB-4B0B5284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99E-C13C-4511-9266-5DCE83D19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D557-DA19-4721-B09B-ACB3FBE68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F92-BFCA-4581-A6A8-30B6FDB70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034-59D4-4861-9D6E-E7AFF0193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E84-6D5B-4C02-8AA3-C5EA273CC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73C3-B5D9-4813-88D4-75E179F3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53C-BD49-46B2-930C-D28DA97B6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F19-F280-44F0-B1BE-0489AA5A1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51DF-9871-4348-B01E-27B6B1D592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0440-B430-4C66-8484-20754DA3F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C4B-6285-459E-BCC6-5321A9B4D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284-5904-4816-A06A-EA83868AF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C4C0-3745-4DDB-B35A-ED1E3F5985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8338-1E78-4A85-8511-C65F7910E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409-7911-4DA1-B196-CE2ED9B10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BE5-CE1B-403A-BF41-9F775E7B0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A11-4589-41E7-96CB-BFB9374D6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890E-EE5B-41A2-8080-6B1418C28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A62E-0103-41D4-B7B9-165BB04C5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240-473E-49EE-AC49-09B0926CE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D41E-F5C8-4E13-9248-2E1E1752C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334A-59AE-4DE6-A386-1EBE3D44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0C4D-8AD7-4933-910D-3F80400AC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DC20-B61B-449E-82F8-BAAF737E2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DCE4-4260-406D-AF58-3F350DC1D0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732E-C05A-4F9A-ADAE-61F3509E4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interregrobg.eu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c.europa.eu/sfc/en/2014/anti-fraud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7" name="Subtitle 2"/>
          <p:cNvSpPr/>
          <p:nvPr/>
        </p:nvSpPr>
        <p:spPr>
          <a:xfrm>
            <a:off x="343080" y="159696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ОРБА С ИЗМА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КОНФЛИКТ НА ИНТЕР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ектите, реализирани в рамките на Програмата Interreg V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Румъния-Бълг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4 ноември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2021</a:t>
            </a: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годин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1" lang="bg-BG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3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4" descr=""/>
          <p:cNvPicPr/>
          <p:nvPr/>
        </p:nvPicPr>
        <p:blipFill>
          <a:blip r:embed="rId4"/>
          <a:stretch/>
        </p:blipFill>
        <p:spPr>
          <a:xfrm>
            <a:off x="7920000" y="299880"/>
            <a:ext cx="1006560" cy="114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457200" y="1301760"/>
            <a:ext cx="80773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bg-BG" sz="2800" spc="-1" strike="noStrike" u="sng">
                <a:solidFill>
                  <a:srgbClr val="ff0000"/>
                </a:solidFill>
                <a:uFillTx/>
                <a:latin typeface="Arial Black"/>
              </a:rPr>
              <a:t>Какво е изма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Измама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- всяко умишлено действие или бездействие,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Black"/>
              </a:rPr>
              <a:t>използване или представяне на неверни, неверни или непълни твърдения ил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638680" y="3224160"/>
            <a:ext cx="3105360" cy="23907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2"/>
          <p:cNvSpPr/>
          <p:nvPr/>
        </p:nvSpPr>
        <p:spPr>
          <a:xfrm>
            <a:off x="422280" y="3429000"/>
            <a:ext cx="495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разкриване на информация в нарушение на конкретно задължение със същия е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използване на средства за цели, различни от тези, за които са отпуснати</a:t>
            </a:r>
            <a:r>
              <a:rPr b="0" lang="ro-RO" sz="18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FF2-A1E3-403F-A6E7-2F37957F48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A063-D1E1-4F06-85E5-78890A8F5D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95360" y="952560"/>
            <a:ext cx="8458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Член 57 от Финансовия рег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Конфликт на интереси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съществува, ако е компрометирано безпристрастното и обективно упражняване на функциите на финансов участник или други лица, участващи в изпълнението и управлението на бюджета, включително изготвянето на съответните подготвителни актове, както и в одита или контрола на бюджета поради причини, включващи: 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495360" y="3422520"/>
            <a:ext cx="819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Сем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олитически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   </a:t>
            </a: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национален афи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Личен жив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кономически инте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Други интереси, общи с тези на получ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299880" y="6149880"/>
            <a:ext cx="1341720" cy="6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4118040" y="3581280"/>
            <a:ext cx="4763880" cy="1806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80520" y="979200"/>
            <a:ext cx="8534520" cy="39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Документи за предотвратяване на измами и конфликт на интер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Глава 18.Б. „Мерки за борба с измамите” от Ръководството за изпълнение на проект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кандидати и бенефициенти на Програмата Interreg V-A Ro-Bg, достъпно на уебсайта на програмата (раздел „Публикации на програмата“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, достъпно на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https://ec.europa.eu/sfc/en/2014/anti-fraud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r>
              <a:rPr b="1" lang="bg-BG" sz="17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286000" y="5014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"/>
          <p:cNvSpPr/>
          <p:nvPr/>
        </p:nvSpPr>
        <p:spPr>
          <a:xfrm>
            <a:off x="380880" y="4900680"/>
            <a:ext cx="6400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Практическо ръководство за бенефициенти на проекти, финансирани от ЕСИ за предотвратяване на нередности/измами, достъпно на 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https://www.integritate.eu/A.N.I.-interactiv/Ghiduri.asp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C:\Users\gergana.mihaylova\Desktop\text-guide.png"/>
          <p:cNvPicPr/>
          <p:nvPr/>
        </p:nvPicPr>
        <p:blipFill>
          <a:blip r:embed="rId2"/>
          <a:stretch/>
        </p:blipFill>
        <p:spPr>
          <a:xfrm>
            <a:off x="6415200" y="4603680"/>
            <a:ext cx="2587680" cy="1725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3"/>
          <a:stretch/>
        </p:blipFill>
        <p:spPr>
          <a:xfrm>
            <a:off x="392040" y="62294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14968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br>
              <a:rPr sz="2000"/>
            </a:br>
            <a:r>
              <a:rPr b="1" lang="bg-BG" sz="2200" spc="-1" strike="noStrike">
                <a:solidFill>
                  <a:srgbClr val="002060"/>
                </a:solidFill>
                <a:latin typeface="Arial Black"/>
                <a:ea typeface="Arial"/>
              </a:rPr>
              <a:t>Как процедираме</a:t>
            </a:r>
            <a:r>
              <a:rPr b="1" lang="ro-RO" sz="2200" spc="-1" strike="noStrike">
                <a:solidFill>
                  <a:srgbClr val="002060"/>
                </a:solidFill>
                <a:latin typeface="Arial Black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43280" y="541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C:\Users\gergana.mihaylova\Desktop\code-of-conduct-img.jpg"/>
          <p:cNvPicPr/>
          <p:nvPr/>
        </p:nvPicPr>
        <p:blipFill>
          <a:blip r:embed="rId1"/>
          <a:stretch/>
        </p:blipFill>
        <p:spPr>
          <a:xfrm>
            <a:off x="6775560" y="2889360"/>
            <a:ext cx="2124000" cy="2460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425520" y="612792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76" name="Subtitle 2"/>
          <p:cNvSpPr/>
          <p:nvPr/>
        </p:nvSpPr>
        <p:spPr>
          <a:xfrm>
            <a:off x="372960" y="2701800"/>
            <a:ext cx="6132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 Black"/>
                <a:ea typeface="Arial"/>
              </a:rPr>
              <a:t>Препоръчително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вътрешен кодекс за поведение и политика на конфликт на интереси </a:t>
            </a:r>
            <a:r>
              <a:rPr b="1" lang="ru-RU" sz="1800" spc="-1" strike="noStrike">
                <a:solidFill>
                  <a:srgbClr val="17375e"/>
                </a:solidFill>
                <a:latin typeface="Arial Black"/>
                <a:ea typeface="Arial"/>
              </a:rPr>
              <a:t>по отношение на проекти, финансирани от европейски фондове</a:t>
            </a:r>
            <a:r>
              <a:rPr b="1" lang="ro-RO" sz="1800" spc="-1" strike="noStrike">
                <a:solidFill>
                  <a:srgbClr val="002060"/>
                </a:solidFill>
                <a:latin typeface="Arial Blac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В противен случай - насоки на ЕС или други национални разпоредби (например: Ръководство на ЕК „Идентифициране на конфликти на интереси в процедури за възлагане на обществени поръчки за структурни действия – Практическо ръководство за мениджъри“) или други национални разпоред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15800" y="2239560"/>
            <a:ext cx="8461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 Black"/>
                <a:ea typeface="Arial"/>
              </a:rPr>
              <a:t>Сферата на обществените поръчки - най-податлива на из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екларации за целия персонал, участващ в процеса на възлагане на обществени поръчки - подписани, регистрирани и предоставени на структурите на Програмата (Приложение 17 в НИП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903320" y="544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        </a:t>
            </a:r>
            <a:r>
              <a:rPr b="0" lang="bg-BG" sz="2800" spc="-1" strike="noStrike">
                <a:solidFill>
                  <a:srgbClr val="003366"/>
                </a:solidFill>
                <a:latin typeface="Arial Black"/>
              </a:rPr>
              <a:t>ПРЕДОТВРАТЯ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6026040" y="3675240"/>
            <a:ext cx="1824120" cy="244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01680" y="6124680"/>
            <a:ext cx="1222200" cy="5554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378000" y="3963960"/>
            <a:ext cx="519264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„4 очи” за всички документи, изготвени в съответствие с националното законодателство/изискванията на вътрешната програма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  <a:ea typeface="Arial"/>
              </a:rPr>
              <a:t>Да се спазва принципът на ротация и произволен подбор при съставяне на комисията за оценка/подбор</a:t>
            </a:r>
            <a:r>
              <a:rPr b="1" lang="en-US" sz="1700" spc="-1" strike="noStrike">
                <a:solidFill>
                  <a:srgbClr val="002060"/>
                </a:solidFill>
                <a:latin typeface="Arial Black"/>
                <a:ea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646200" y="1420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Глава 18.Б. от Ръководството за изпълнение на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135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47840" y="613260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88" name="Content Placeholder 1"/>
          <p:cNvSpPr/>
          <p:nvPr/>
        </p:nvSpPr>
        <p:spPr>
          <a:xfrm>
            <a:off x="685800" y="9907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66"/>
                </a:solidFill>
                <a:latin typeface="Trebuchet MS"/>
                <a:ea typeface="Arial"/>
              </a:rPr>
              <a:t>Нашият принцип</a:t>
            </a:r>
            <a:r>
              <a:rPr b="1" lang="ro-RO" sz="3000" spc="-1" strike="noStrike">
                <a:solidFill>
                  <a:srgbClr val="003366"/>
                </a:solidFill>
                <a:latin typeface="Trebuchet MS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4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Trebuchet MS"/>
                <a:ea typeface="Arial"/>
              </a:rPr>
              <a:t>Нулева толерантност към измами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  <a:ea typeface="Arial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339840" y="212724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293760" y="4473720"/>
            <a:ext cx="60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  <a:ea typeface="Arial"/>
              </a:rPr>
              <a:t>Системата за предупреждение на уебсайта на Програмата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https://www.interregrobg.eu/ro/cont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3"/>
          <a:stretch/>
        </p:blipFill>
        <p:spPr>
          <a:xfrm>
            <a:off x="7083360" y="438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4" descr=""/>
          <p:cNvPicPr/>
          <p:nvPr/>
        </p:nvPicPr>
        <p:blipFill>
          <a:blip r:embed="rId4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"/>
          <p:cNvPicPr/>
          <p:nvPr/>
        </p:nvPicPr>
        <p:blipFill>
          <a:blip r:embed="rId5"/>
          <a:stretch/>
        </p:blipFill>
        <p:spPr>
          <a:xfrm>
            <a:off x="293760" y="331920"/>
            <a:ext cx="3616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2"/>
          <p:cNvSpPr/>
          <p:nvPr/>
        </p:nvSpPr>
        <p:spPr>
          <a:xfrm>
            <a:off x="6553080" y="6294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C95D-E6BC-4FE4-B63B-4D281C8206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522440" y="9050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Black"/>
              </a:rPr>
              <a:t>       </a:t>
            </a:r>
            <a:r>
              <a:rPr b="0" lang="bg-BG" sz="2800" spc="-1" strike="noStrike">
                <a:solidFill>
                  <a:srgbClr val="002060"/>
                </a:solidFill>
                <a:latin typeface="Arial Black"/>
              </a:rPr>
              <a:t>ДОКЛАДВ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gergana.mihaylova\Desktop\images.jpg"/>
          <p:cNvPicPr/>
          <p:nvPr/>
        </p:nvPicPr>
        <p:blipFill>
          <a:blip r:embed="rId1"/>
          <a:stretch/>
        </p:blipFill>
        <p:spPr>
          <a:xfrm>
            <a:off x="5764320" y="2797200"/>
            <a:ext cx="3074760" cy="2895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03200" y="6016680"/>
            <a:ext cx="13413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9"/>
          <p:cNvSpPr/>
          <p:nvPr/>
        </p:nvSpPr>
        <p:spPr>
          <a:xfrm>
            <a:off x="746280" y="643104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Trebuchet MS"/>
                <a:ea typeface="Arial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6080" y="178920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В случай на каквато и да е информация за съмнение за измама/нередност, свързана с Програмата, структурите за управление ще бъдат уведомени чрез системата за предупреждение: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румънските бенефици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sesizari.proiecte@mlpda.ro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● </a:t>
            </a:r>
            <a:r>
              <a:rPr b="0" lang="bg-BG" sz="1800" spc="-1" strike="noStrike">
                <a:solidFill>
                  <a:srgbClr val="002060"/>
                </a:solidFill>
                <a:latin typeface="Arial Black"/>
              </a:rPr>
              <a:t>За българските бенефициенти</a:t>
            </a: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Yana.Koleva@mrrb.government.bg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Rositsa.Draganova@mrrb.government.b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D.Petkova@mrrb.government.b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4" descr=""/>
          <p:cNvPicPr/>
          <p:nvPr/>
        </p:nvPicPr>
        <p:blipFill>
          <a:blip r:embed="rId3"/>
          <a:stretch/>
        </p:blipFill>
        <p:spPr>
          <a:xfrm>
            <a:off x="8305920" y="6070680"/>
            <a:ext cx="593640" cy="673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"/>
          <p:cNvPicPr/>
          <p:nvPr/>
        </p:nvPicPr>
        <p:blipFill>
          <a:blip r:embed="rId4"/>
          <a:stretch/>
        </p:blipFill>
        <p:spPr>
          <a:xfrm>
            <a:off x="293760" y="331920"/>
            <a:ext cx="305892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Evdokia NEDELCHEVA</cp:lastModifiedBy>
  <cp:lastPrinted>2020-06-30T12:14:09Z</cp:lastPrinted>
  <dcterms:modified xsi:type="dcterms:W3CDTF">2021-11-16T12:27:43Z</dcterms:modified>
  <cp:revision>569</cp:revision>
  <dc:subject/>
  <dc:title>Slide 1</dc:title>
</cp:coreProperties>
</file>