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9D7D-306B-4309-AD8B-C3D7C565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67B5-3DFC-4C71-AE9F-3331C577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66C-5B6A-4BFF-B172-02A4CDE3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134-83BA-42DE-9B42-95B1D49F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7B48-E408-49C6-9870-BB3167E5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BBF2-EC27-4317-8DF9-14EFC8B5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8C4B-B287-4F30-9507-7F8EFE4E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8E5E-7B1B-4F2D-9A8A-3CD34613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48E-CC17-4CF9-8F0B-9EA6AB1F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E2D-8BBE-4971-B715-EC9DDA4E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D60-7994-47B3-98EE-E0BAB56B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B91-074D-4880-9E3C-432D80B2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EC7D-2CF9-47C8-B8AF-EDE251DB6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5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5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5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0" y="228600"/>
            <a:ext cx="1905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52280" y="152280"/>
            <a:ext cx="14479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05120" y="1676520"/>
            <a:ext cx="563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Trebuchet MS"/>
                <a:ea typeface="Arial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19320" y="1803240"/>
            <a:ext cx="6933960" cy="31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Trebuchet MS"/>
                <a:ea typeface="Arial"/>
              </a:rPr>
              <a:t>Erori frecvente </a:t>
            </a:r>
            <a:r>
              <a:rPr b="1" lang="ro-RO" sz="2400" spc="-1" strike="noStrike">
                <a:solidFill>
                  <a:srgbClr val="1f497d"/>
                </a:solidFill>
                <a:latin typeface="Trebuchet MS"/>
                <a:ea typeface="Arial"/>
              </a:rPr>
              <a:t>î</a:t>
            </a:r>
            <a:r>
              <a:rPr b="1" lang="it-IT" sz="2400" spc="-1" strike="noStrike">
                <a:solidFill>
                  <a:srgbClr val="1f497d"/>
                </a:solidFill>
                <a:latin typeface="Trebuchet MS"/>
                <a:ea typeface="Arial"/>
              </a:rPr>
              <a:t>n procesul de atribuire a contractelor de achizi</a:t>
            </a:r>
            <a:r>
              <a:rPr b="1" lang="ro-RO" sz="2400" spc="-1" strike="noStrike">
                <a:solidFill>
                  <a:srgbClr val="1f497d"/>
                </a:solidFill>
                <a:latin typeface="Trebuchet MS"/>
                <a:ea typeface="Arial"/>
              </a:rPr>
              <a:t>ț</a:t>
            </a:r>
            <a:r>
              <a:rPr b="1" lang="it-IT" sz="2400" spc="-1" strike="noStrike">
                <a:solidFill>
                  <a:srgbClr val="1f497d"/>
                </a:solidFill>
                <a:latin typeface="Trebuchet MS"/>
                <a:ea typeface="Arial"/>
              </a:rPr>
              <a:t>ie finan</a:t>
            </a:r>
            <a:r>
              <a:rPr b="1" lang="ro-RO" sz="2400" spc="-1" strike="noStrike">
                <a:solidFill>
                  <a:srgbClr val="1f497d"/>
                </a:solidFill>
                <a:latin typeface="Trebuchet MS"/>
                <a:ea typeface="Arial"/>
              </a:rPr>
              <a:t>ț</a:t>
            </a:r>
            <a:r>
              <a:rPr b="1" lang="it-IT" sz="2400" spc="-1" strike="noStrike">
                <a:solidFill>
                  <a:srgbClr val="1f497d"/>
                </a:solidFill>
                <a:latin typeface="Trebuchet MS"/>
                <a:ea typeface="Arial"/>
              </a:rPr>
              <a:t>ate </a:t>
            </a:r>
            <a:r>
              <a:rPr b="1" lang="ro-RO" sz="2400" spc="-1" strike="noStrike">
                <a:solidFill>
                  <a:srgbClr val="1f497d"/>
                </a:solidFill>
                <a:latin typeface="Trebuchet MS"/>
                <a:ea typeface="Arial"/>
              </a:rPr>
              <a:t>î</a:t>
            </a:r>
            <a:r>
              <a:rPr b="1" lang="it-IT" sz="2400" spc="-1" strike="noStrike">
                <a:solidFill>
                  <a:srgbClr val="1f497d"/>
                </a:solidFill>
                <a:latin typeface="Trebuchet MS"/>
                <a:ea typeface="Arial"/>
              </a:rPr>
              <a:t>n cad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Trebuchet MS"/>
                <a:ea typeface="Arial"/>
              </a:rPr>
              <a:t>INTERREG V-A Rom</a:t>
            </a:r>
            <a:r>
              <a:rPr b="1" lang="ro-RO" sz="2400" spc="-1" strike="noStrike">
                <a:solidFill>
                  <a:srgbClr val="1f497d"/>
                </a:solidFill>
                <a:latin typeface="Trebuchet MS"/>
                <a:ea typeface="Arial"/>
              </a:rPr>
              <a:t>â</a:t>
            </a:r>
            <a:r>
              <a:rPr b="1" lang="it-IT" sz="2400" spc="-1" strike="noStrike">
                <a:solidFill>
                  <a:srgbClr val="1f497d"/>
                </a:solidFill>
                <a:latin typeface="Trebuchet MS"/>
                <a:ea typeface="Arial"/>
              </a:rPr>
              <a:t>nia – Bulg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Trebuchet MS"/>
                <a:ea typeface="Arial"/>
              </a:rPr>
              <a:t>Giurgiu, 19 noiembrie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4970520" y="241200"/>
            <a:ext cx="954000" cy="828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3314880" y="4546440"/>
            <a:ext cx="2609640" cy="1209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tretch/>
        </p:blipFill>
        <p:spPr>
          <a:xfrm>
            <a:off x="330120" y="297000"/>
            <a:ext cx="4121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4"/>
          <a:stretch/>
        </p:blipFill>
        <p:spPr>
          <a:xfrm>
            <a:off x="6443640" y="262080"/>
            <a:ext cx="831960" cy="80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5"/>
          <a:stretch/>
        </p:blipFill>
        <p:spPr>
          <a:xfrm>
            <a:off x="7791480" y="228600"/>
            <a:ext cx="766800" cy="88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6"/>
          <a:stretch/>
        </p:blipFill>
        <p:spPr>
          <a:xfrm>
            <a:off x="304920" y="6095880"/>
            <a:ext cx="8534160" cy="5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Trebuchet MS"/>
              </a:rPr>
              <a:t>Estimare valoare contract - stabilire procedur</a:t>
            </a:r>
            <a:r>
              <a:rPr b="1" lang="ro-RO" sz="2400" spc="-1" strike="noStrike">
                <a:solidFill>
                  <a:srgbClr val="1f497d"/>
                </a:solidFill>
                <a:latin typeface="Trebuchet MS"/>
              </a:rPr>
              <a:t>ă</a:t>
            </a:r>
            <a:r>
              <a:rPr b="1" lang="en-US" sz="2400" spc="-1" strike="noStrike">
                <a:solidFill>
                  <a:srgbClr val="1f497d"/>
                </a:solidFill>
                <a:latin typeface="Trebuchet MS"/>
              </a:rPr>
              <a:t> de atribu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divizarea artificial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ă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 a contractului de achizi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ț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ie (ex. servicii - elaborare documenta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ț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ii tehnice, transport, publicitate)</a:t>
            </a:r>
            <a:r>
              <a:rPr b="0" lang="en-GB" sz="2200" spc="-1" strike="noStrike">
                <a:solidFill>
                  <a:srgbClr val="1f497d"/>
                </a:solidFill>
                <a:latin typeface="Trebuchet MS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utilizare metode de calcul a valorii estimate 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î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n scopul evit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ă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rii aplic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ă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rii unei proceduri de atribuire (curs de schimb, metodologie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utilizarea procedurii de negociere f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ă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r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ă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 publicarea prealabil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ă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 a unui anun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ț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 de participare(lege 98/2016, art.104(1), lit.a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380880" y="206280"/>
            <a:ext cx="4121280" cy="750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5433840" y="222120"/>
            <a:ext cx="957600" cy="828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6778800" y="192240"/>
            <a:ext cx="1908000" cy="987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4"/>
          <a:stretch/>
        </p:blipFill>
        <p:spPr>
          <a:xfrm>
            <a:off x="7467480" y="206280"/>
            <a:ext cx="831960" cy="808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5"/>
          <a:stretch/>
        </p:blipFill>
        <p:spPr>
          <a:xfrm>
            <a:off x="351000" y="6024600"/>
            <a:ext cx="1420560" cy="660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6"/>
          <a:stretch/>
        </p:blipFill>
        <p:spPr>
          <a:xfrm>
            <a:off x="8074080" y="5943600"/>
            <a:ext cx="64296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Trebuchet MS"/>
              </a:rPr>
              <a:t>Anun</a:t>
            </a:r>
            <a:r>
              <a:rPr b="1" lang="ro-RO" sz="2400" spc="-1" strike="noStrike">
                <a:solidFill>
                  <a:srgbClr val="1f497d"/>
                </a:solidFill>
                <a:latin typeface="Trebuchet MS"/>
              </a:rPr>
              <a:t>ț</a:t>
            </a:r>
            <a:r>
              <a:rPr b="1" lang="en-US" sz="2400" spc="-1" strike="noStrike">
                <a:solidFill>
                  <a:srgbClr val="1f497d"/>
                </a:solidFill>
                <a:latin typeface="Trebuchet MS"/>
              </a:rPr>
              <a:t> de participare (simplificat) – documenta</a:t>
            </a:r>
            <a:r>
              <a:rPr b="1" lang="ro-RO" sz="2400" spc="-1" strike="noStrike">
                <a:solidFill>
                  <a:srgbClr val="1f497d"/>
                </a:solidFill>
                <a:latin typeface="Trebuchet MS"/>
              </a:rPr>
              <a:t>ț</a:t>
            </a:r>
            <a:r>
              <a:rPr b="1" lang="en-US" sz="2400" spc="-1" strike="noStrike">
                <a:solidFill>
                  <a:srgbClr val="1f497d"/>
                </a:solidFill>
                <a:latin typeface="Trebuchet MS"/>
              </a:rPr>
              <a:t>ie de atribu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s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pecifica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ț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ii tehnice(anumit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ă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 origine a produselor, m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ă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rci comerciale f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ă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r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ă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 men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ț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iunea “sau echivalent”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criterii de calificare restrictiv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factori de evaluare insuficient detalia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ț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i - avantaje/dezavantaje propuneri tehnic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clarific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ă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ri nepublicate 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î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n SEAP/site-ul Programulu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858000" y="228600"/>
            <a:ext cx="1905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382680" y="228600"/>
            <a:ext cx="8304120" cy="993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351000" y="6024600"/>
            <a:ext cx="1420560" cy="66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8074080" y="5943600"/>
            <a:ext cx="64296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Trebuchet MS"/>
              </a:rPr>
              <a:t>Evaluare ofe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ne</a:t>
            </a:r>
            <a:r>
              <a:rPr b="0" lang="ro-RO" sz="2400" spc="-1" strike="noStrike">
                <a:solidFill>
                  <a:srgbClr val="1f497d"/>
                </a:solidFill>
                <a:latin typeface="Trebuchet MS"/>
              </a:rPr>
              <a:t>î</a:t>
            </a: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ndeplinire criterii de calificar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nerespectare specifica</a:t>
            </a:r>
            <a:r>
              <a:rPr b="0" lang="ro-RO" sz="2400" spc="-1" strike="noStrike">
                <a:solidFill>
                  <a:srgbClr val="1f497d"/>
                </a:solidFill>
                <a:latin typeface="Trebuchet MS"/>
              </a:rPr>
              <a:t>ț</a:t>
            </a: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ii tehnice minim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modific</a:t>
            </a:r>
            <a:r>
              <a:rPr b="0" lang="ro-RO" sz="2400" spc="-1" strike="noStrike">
                <a:solidFill>
                  <a:srgbClr val="1f497d"/>
                </a:solidFill>
                <a:latin typeface="Trebuchet MS"/>
              </a:rPr>
              <a:t>ă</a:t>
            </a: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ri ale factorilor de evaluare </a:t>
            </a:r>
            <a:r>
              <a:rPr b="0" lang="ro-RO" sz="2400" spc="-1" strike="noStrike">
                <a:solidFill>
                  <a:srgbClr val="1f497d"/>
                </a:solidFill>
                <a:latin typeface="Trebuchet MS"/>
              </a:rPr>
              <a:t>având ca efect favorizarea unui anumit ofertant</a:t>
            </a:r>
            <a:r>
              <a:rPr b="0" lang="en-GB" sz="2400" spc="-1" strike="noStrike">
                <a:solidFill>
                  <a:srgbClr val="1f497d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858000" y="228600"/>
            <a:ext cx="1905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80880" y="206280"/>
            <a:ext cx="4121280" cy="750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5433840" y="222120"/>
            <a:ext cx="957600" cy="82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6778800" y="192240"/>
            <a:ext cx="1908000" cy="987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4"/>
          <a:stretch/>
        </p:blipFill>
        <p:spPr>
          <a:xfrm>
            <a:off x="7467480" y="206280"/>
            <a:ext cx="831960" cy="808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5"/>
          <a:stretch/>
        </p:blipFill>
        <p:spPr>
          <a:xfrm>
            <a:off x="351000" y="6024600"/>
            <a:ext cx="1420560" cy="66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6"/>
          <a:stretch/>
        </p:blipFill>
        <p:spPr>
          <a:xfrm>
            <a:off x="8074080" y="5943600"/>
            <a:ext cx="64296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Trebuchet MS"/>
              </a:rPr>
              <a:t>Implementare co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acordare avans care nu a fost prev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ă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zut 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î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n documenta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ț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ia de atribuir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neconstiture garan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ț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ie de buna execu</a:t>
            </a:r>
            <a:r>
              <a:rPr b="0" lang="ro-RO" sz="2200" spc="-1" strike="noStrike">
                <a:solidFill>
                  <a:srgbClr val="1f497d"/>
                </a:solidFill>
                <a:latin typeface="Trebuchet MS"/>
              </a:rPr>
              <a:t>ț</a:t>
            </a: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i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nerespectare termen de livrare/prest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858000" y="228600"/>
            <a:ext cx="1905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380880" y="206280"/>
            <a:ext cx="4121280" cy="750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5433840" y="222120"/>
            <a:ext cx="957600" cy="828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6778800" y="192240"/>
            <a:ext cx="1908000" cy="987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7467480" y="206280"/>
            <a:ext cx="831960" cy="808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5"/>
          <a:stretch/>
        </p:blipFill>
        <p:spPr>
          <a:xfrm>
            <a:off x="351000" y="6024600"/>
            <a:ext cx="1420560" cy="660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6"/>
          <a:stretch/>
        </p:blipFill>
        <p:spPr>
          <a:xfrm>
            <a:off x="8074080" y="5943600"/>
            <a:ext cx="642960" cy="741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7"/>
          <a:stretch/>
        </p:blipFill>
        <p:spPr>
          <a:xfrm>
            <a:off x="304920" y="6154560"/>
            <a:ext cx="853416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3:10:07Z</dcterms:created>
  <dc:creator>eliza.pisica</dc:creator>
  <dc:description/>
  <dc:language>en-US</dc:language>
  <cp:lastModifiedBy>bogdan.musat</cp:lastModifiedBy>
  <cp:lastPrinted>2011-07-11T13:36:13Z</cp:lastPrinted>
  <dcterms:modified xsi:type="dcterms:W3CDTF">2019-11-11T13:13:28Z</dcterms:modified>
  <cp:revision>640</cp:revision>
  <dc:subject/>
  <dc:title>Slide 1</dc:title>
</cp:coreProperties>
</file>